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536D-6830-49A1-916A-43DB9C4A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C66B-7FE5-4840-A647-22ECF5CD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EE7D-3B79-4E80-9416-600B85620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C3A-3669-4F81-84B8-4CEF903F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FAB-4A5F-450C-83E4-F1B9C226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1477-F363-42FE-ADB9-FC5DB543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EF8F-C683-4A90-90D2-0B2B03F8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CFB6-0F19-4415-8CB8-568CBD1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A0CB-0C5E-461A-AA1C-CECAEEA2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E7F-1C73-46F6-96FE-90B1B24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8FB-9B41-4C5A-A88C-7FD7B8B2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315D-00FD-4329-BDC1-4791F571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AAF6-A391-403E-B162-1C46041C7C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066680" y="2819520"/>
            <a:ext cx="71629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Franklin Gothic Medium"/>
              </a:rPr>
              <a:t>PSALM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066680" y="266688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gainst your enemie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H02012K"/>
          <p:cNvPicPr/>
          <p:nvPr/>
        </p:nvPicPr>
        <p:blipFill>
          <a:blip r:embed="rId1"/>
          <a:stretch/>
        </p:blipFill>
        <p:spPr>
          <a:xfrm>
            <a:off x="-304920" y="-473040"/>
            <a:ext cx="9448920" cy="75754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"/>
          <p:cNvSpPr/>
          <p:nvPr/>
        </p:nvSpPr>
        <p:spPr>
          <a:xfrm>
            <a:off x="3505320" y="380880"/>
            <a:ext cx="525780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o silence the foe and the aveng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066680" y="266688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When I consider your heaven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75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H03719I"/>
          <p:cNvPicPr/>
          <p:nvPr/>
        </p:nvPicPr>
        <p:blipFill>
          <a:blip r:embed="rId1"/>
          <a:stretch/>
        </p:blipFill>
        <p:spPr>
          <a:xfrm>
            <a:off x="-609480" y="-596880"/>
            <a:ext cx="11277360" cy="7445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066680" y="266688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he work of your fingers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stars_main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762120" y="-395280"/>
            <a:ext cx="7215120" cy="72532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1">
            <a:lum bright="-12000"/>
          </a:blip>
          <a:srcRect l="1283" t="2279" r="1721" b="7618"/>
          <a:stretch/>
        </p:blipFill>
        <p:spPr>
          <a:xfrm>
            <a:off x="-4343400" y="-762120"/>
            <a:ext cx="12344400" cy="77565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990720" y="1828800"/>
            <a:ext cx="716256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he moon and the stars, which you have set in place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3"/>
          <p:cNvGraphicFramePr/>
          <p:nvPr/>
        </p:nvGraphicFramePr>
        <p:xfrm>
          <a:off x="-533520" y="-90360"/>
          <a:ext cx="9677520" cy="6948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-90360"/>
                    <a:ext cx="9677520" cy="69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2"/>
          <p:cNvSpPr/>
          <p:nvPr/>
        </p:nvSpPr>
        <p:spPr>
          <a:xfrm>
            <a:off x="324000" y="260280"/>
            <a:ext cx="858348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What are mere mortals that you are mindful of them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hand1"/>
          <p:cNvPicPr/>
          <p:nvPr/>
        </p:nvPicPr>
        <p:blipFill>
          <a:blip r:embed="rId1"/>
          <a:stretch/>
        </p:blipFill>
        <p:spPr>
          <a:xfrm>
            <a:off x="0" y="0"/>
            <a:ext cx="3711600" cy="5257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1600200" y="419112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human beings that you care for the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Landscape 0936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-609480" y="0"/>
            <a:ext cx="10667880" cy="6934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219320" y="1676520"/>
            <a:ext cx="716256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ou have made them a little lower than the heavenly being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3276720" y="1752480"/>
            <a:ext cx="2590560" cy="2563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838080" y="5334120"/>
            <a:ext cx="73915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Lord, our Lor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75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sunset"/>
          <p:cNvPicPr/>
          <p:nvPr/>
        </p:nvPicPr>
        <p:blipFill>
          <a:blip r:embed="rId1"/>
          <a:stretch/>
        </p:blipFill>
        <p:spPr>
          <a:xfrm>
            <a:off x="-1447920" y="0"/>
            <a:ext cx="10591920" cy="69246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"/>
          <p:cNvSpPr/>
          <p:nvPr/>
        </p:nvSpPr>
        <p:spPr>
          <a:xfrm>
            <a:off x="1066680" y="2362320"/>
            <a:ext cx="71629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nd crowned them with glory and honou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75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flowers"/>
          <p:cNvPicPr/>
          <p:nvPr/>
        </p:nvPicPr>
        <p:blipFill>
          <a:blip r:embed="rId1"/>
          <a:stretch/>
        </p:blipFill>
        <p:spPr>
          <a:xfrm>
            <a:off x="-1219320" y="-36360"/>
            <a:ext cx="10534680" cy="689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609480" y="457200"/>
            <a:ext cx="807732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ou made them rulers over the works of your hands;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7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leaves"/>
          <p:cNvPicPr/>
          <p:nvPr/>
        </p:nvPicPr>
        <p:blipFill>
          <a:blip r:embed="rId1"/>
          <a:stretch/>
        </p:blipFill>
        <p:spPr>
          <a:xfrm>
            <a:off x="-533520" y="-125280"/>
            <a:ext cx="9677520" cy="6983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609480" y="457200"/>
            <a:ext cx="80773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ou put everything under their feet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fade thruBlk="true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066680" y="2666880"/>
            <a:ext cx="71629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ll flocks..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7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j0178447"/>
          <p:cNvPicPr/>
          <p:nvPr/>
        </p:nvPicPr>
        <p:blipFill>
          <a:blip r:embed="rId1"/>
          <a:stretch/>
        </p:blipFill>
        <p:spPr>
          <a:xfrm>
            <a:off x="-990720" y="0"/>
            <a:ext cx="10591920" cy="70610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066680" y="2666880"/>
            <a:ext cx="71629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nd herds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j0178988"/>
          <p:cNvPicPr/>
          <p:nvPr/>
        </p:nvPicPr>
        <p:blipFill>
          <a:blip r:embed="rId1"/>
          <a:stretch/>
        </p:blipFill>
        <p:spPr>
          <a:xfrm>
            <a:off x="-457200" y="-142920"/>
            <a:ext cx="9601200" cy="70009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dove"/>
          <p:cNvPicPr/>
          <p:nvPr/>
        </p:nvPicPr>
        <p:blipFill>
          <a:blip r:embed="rId1"/>
          <a:stretch/>
        </p:blipFill>
        <p:spPr>
          <a:xfrm>
            <a:off x="1143000" y="152280"/>
            <a:ext cx="2867040" cy="29797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"/>
          <p:cNvSpPr/>
          <p:nvPr/>
        </p:nvSpPr>
        <p:spPr>
          <a:xfrm>
            <a:off x="1042920" y="3716280"/>
            <a:ext cx="71629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he birds in the sky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75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j0182515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1066680" y="281952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nd the fish in the sea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75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j0178772"/>
          <p:cNvPicPr/>
          <p:nvPr/>
        </p:nvPicPr>
        <p:blipFill>
          <a:blip r:embed="rId1"/>
          <a:stretch/>
        </p:blipFill>
        <p:spPr>
          <a:xfrm>
            <a:off x="0" y="-171360"/>
            <a:ext cx="10515600" cy="7029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914400" y="533520"/>
            <a:ext cx="71629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…</a:t>
            </a: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all that swim the paths of the sea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75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2362320" y="1219320"/>
            <a:ext cx="4190760" cy="41497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3276720" y="1752480"/>
            <a:ext cx="2590560" cy="2563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838080" y="5334120"/>
            <a:ext cx="739152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Lord, our Lord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75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762120" y="-3124080"/>
            <a:ext cx="7467480" cy="7391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914400" y="3962520"/>
            <a:ext cx="70866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how majestic is your name in all the earth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0"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7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066680" y="2819520"/>
            <a:ext cx="71629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Franklin Gothic Medium"/>
              </a:rPr>
              <a:t>Psalm 8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ranklin Gothic Medium"/>
              </a:rPr>
              <a:t>(TNI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1981080" y="762120"/>
            <a:ext cx="5334120" cy="52797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609480" y="-609480"/>
            <a:ext cx="8077320" cy="79959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j0289199"/>
          <p:cNvPicPr/>
          <p:nvPr/>
        </p:nvPicPr>
        <p:blipFill>
          <a:blip r:embed="rId1">
            <a:lum contrast="18000"/>
          </a:blip>
          <a:srcRect l="18553" t="0" r="14094" b="0"/>
          <a:stretch/>
        </p:blipFill>
        <p:spPr>
          <a:xfrm>
            <a:off x="762120" y="-3124080"/>
            <a:ext cx="7467480" cy="73911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914400" y="3962520"/>
            <a:ext cx="70866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How majestic is your name in all the earth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75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j0182772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00200" y="1006560"/>
            <a:ext cx="7391520" cy="5851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80880" y="304920"/>
            <a:ext cx="807732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ou have set your glory above the heave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H01716J"/>
          <p:cNvPicPr/>
          <p:nvPr/>
        </p:nvPicPr>
        <p:blipFill>
          <a:blip r:embed="rId1"/>
          <a:stretch/>
        </p:blipFill>
        <p:spPr>
          <a:xfrm>
            <a:off x="-685800" y="-203040"/>
            <a:ext cx="10591920" cy="70610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36960" y="3773520"/>
            <a:ext cx="5638680" cy="30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hrough the praise of children and infa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H01716J"/>
          <p:cNvPicPr/>
          <p:nvPr/>
        </p:nvPicPr>
        <p:blipFill>
          <a:blip r:embed="rId1"/>
          <a:stretch/>
        </p:blipFill>
        <p:spPr>
          <a:xfrm>
            <a:off x="-685800" y="-203040"/>
            <a:ext cx="10591920" cy="7061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200400" y="4114800"/>
            <a:ext cx="563868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ou have established a stronghold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17:33:32Z</dcterms:created>
  <dc:creator>setup1-01</dc:creator>
  <dc:description/>
  <dc:language>en-US</dc:language>
  <cp:lastModifiedBy>James Lawrence</cp:lastModifiedBy>
  <dcterms:modified xsi:type="dcterms:W3CDTF">2018-08-03T10:21:03Z</dcterms:modified>
  <cp:revision>23</cp:revision>
  <dc:subject/>
  <dc:title>PowerPoint Presentation</dc:title>
</cp:coreProperties>
</file>