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098F-3EB4-407E-BA1F-7AC40D8FC0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96A2-514F-429A-BDA9-E020785BF8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A220-E07A-4F02-9B4D-D4432FDA11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32E1-EF6A-4969-9D85-D75CCEE014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3473-D398-4D17-B2E6-C3B157D069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B98-5132-42AA-B9B9-BF2562E40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7A7A-ED81-47CE-8FBA-B1EEB3A7AE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961-72F5-49B0-8F22-CBF1BBB237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228-E96F-48FD-918C-D9F9473637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FF2F-E1E4-4DAA-AB1F-EB1761F379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C07E-3805-4E93-9BB4-64EB67BDE9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E1E6-7682-4FD1-9D97-36D2887439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FF6-6627-4C07-B1DA-BB23087801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EE7E-72D2-4B69-A85B-A2BA8D1EB3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0516-904B-4078-9F39-941806AE6B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51D4-D505-486D-A34E-91070FB461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9C51-7B71-4DFB-86FF-9791E03EE0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972-189C-43FB-8BDA-7DD0F878C7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F8D1-B8D7-430C-B3B0-BA1477759E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05C8-CAF7-49B8-B755-551070B4DD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eadership Mat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ring Harvest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7E3631F1-5DCB-4CE0-AA9D-A14804D54103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81D4-3065-4D15-9CD2-FF9DD4B3D5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41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760A86EC-98F3-4340-852D-F6D8A4B025D6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1BCEAE17-AA1A-4CFC-A8C8-017861966C56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15640" y="213336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115640" y="838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124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129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131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95cc48"/>
          </a:solidFill>
          <a:ln w="9360">
            <a:solidFill>
              <a:srgbClr val="95cc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87280" y="1628640"/>
            <a:ext cx="56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PART 2 – KEY SKILLS OF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195640" y="2973240"/>
            <a:ext cx="6459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5: Discerning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6: Develop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7: Leading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005586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900000" y="1673280"/>
            <a:ext cx="59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36c23"/>
                </a:solidFill>
                <a:latin typeface="Franklin Gothic Medium"/>
                <a:ea typeface="Arial"/>
              </a:rPr>
              <a:t>PART 3 – KEEPING FAITHFUL IN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124000" y="2997360"/>
            <a:ext cx="6459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8: Embracing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9: Staying fr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10: Continuing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500" spc="-1" strike="noStrike">
                <a:solidFill>
                  <a:srgbClr val="f36c23"/>
                </a:solidFill>
                <a:latin typeface="Franklin Gothic Medium"/>
              </a:rPr>
              <a:t>THANKS!</a:t>
            </a:r>
            <a:endParaRPr b="0" lang="en-US" sz="155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so01047_"/>
          <p:cNvPicPr/>
          <p:nvPr/>
        </p:nvPicPr>
        <p:blipFill>
          <a:blip r:embed="rId1"/>
          <a:stretch/>
        </p:blipFill>
        <p:spPr>
          <a:xfrm>
            <a:off x="6324480" y="152280"/>
            <a:ext cx="2643480" cy="3429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1052640" y="2276640"/>
            <a:ext cx="708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4d9b"/>
                </a:solidFill>
                <a:latin typeface="Jokerman"/>
              </a:rPr>
              <a:t>It’s that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4d9b"/>
                </a:solidFill>
                <a:latin typeface="Jokerman"/>
              </a:rPr>
              <a:t>time again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4920" y="836280"/>
            <a:ext cx="630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PHILIPPIANS 1:1-11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47640" y="1987560"/>
            <a:ext cx="55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174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source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of thanks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174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focus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of thanks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174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hope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of thanks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5508720" y="3860640"/>
            <a:ext cx="2879640" cy="230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539640" y="549360"/>
            <a:ext cx="8367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Leader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Father Go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end again the Spirit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That we might l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in the freedom of Christ.</a:t>
            </a:r>
            <a:r>
              <a:rPr b="0" lang="en-GB" sz="4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ph02142j"/>
          <p:cNvPicPr/>
          <p:nvPr/>
        </p:nvPicPr>
        <p:blipFill>
          <a:blip r:embed="rId1"/>
          <a:stretch/>
        </p:blipFill>
        <p:spPr>
          <a:xfrm>
            <a:off x="6662880" y="4151160"/>
            <a:ext cx="3097080" cy="3017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468360" y="549360"/>
            <a:ext cx="74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May you grow in love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knowledge and insigh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bearing fruit for God’s gl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until Jesus comes again</a:t>
            </a:r>
            <a:r>
              <a:rPr b="0" lang="en-GB" sz="4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Image result for sea"/>
          <p:cNvPicPr/>
          <p:nvPr/>
        </p:nvPicPr>
        <p:blipFill>
          <a:blip r:embed="rId1"/>
          <a:stretch/>
        </p:blipFill>
        <p:spPr>
          <a:xfrm>
            <a:off x="5437080" y="2724120"/>
            <a:ext cx="4681800" cy="4621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68360" y="333360"/>
            <a:ext cx="59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Disturb us,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we are too well pleased with ourselv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our dreams have come true because we have dreamed too litt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we arrive safely because we sailed too close to the sh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Image result for sea"/>
          <p:cNvPicPr/>
          <p:nvPr/>
        </p:nvPicPr>
        <p:blipFill>
          <a:blip r:embed="rId1"/>
          <a:stretch/>
        </p:blipFill>
        <p:spPr>
          <a:xfrm>
            <a:off x="5437080" y="2724120"/>
            <a:ext cx="4681800" cy="4621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468360" y="404640"/>
            <a:ext cx="475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Disturb us,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with the abundance of things we poss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e have lost our thirst for the waters of lif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having fallen in love with life, we have ceased to dream of etern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in our efforts to build a new earth, we have allowed our vision of the new heaven to d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538200" y="476280"/>
            <a:ext cx="489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Disturb us,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o dare more boldly, to venture on wider se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re storms will show your maste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re losing sight of land, we shall find the st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e ask you to push back the horizons of our hop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nd to push into the future in strength, courage, hope and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Image result for sea"/>
          <p:cNvPicPr/>
          <p:nvPr/>
        </p:nvPicPr>
        <p:blipFill>
          <a:blip r:embed="rId1"/>
          <a:stretch/>
        </p:blipFill>
        <p:spPr>
          <a:xfrm>
            <a:off x="5437080" y="2724120"/>
            <a:ext cx="4681800" cy="462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9280" y="121932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Franklin Gothic Medium"/>
              </a:rPr>
              <a:t>SWEET STUFF</a:t>
            </a:r>
            <a:endParaRPr b="0" lang="en-US" sz="96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36" name="Picture 4" descr="C:\Users\rory\AppData\Local\Microsoft\Windows\Temporary Internet Files\Content.IE5\OB6QWIU1\MP900402393[1].jpg"/>
          <p:cNvPicPr/>
          <p:nvPr/>
        </p:nvPicPr>
        <p:blipFill>
          <a:blip r:embed="rId1"/>
          <a:stretch/>
        </p:blipFill>
        <p:spPr>
          <a:xfrm>
            <a:off x="262080" y="303120"/>
            <a:ext cx="4173480" cy="626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262080" y="303120"/>
            <a:ext cx="8567640" cy="626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1680" y="1197000"/>
            <a:ext cx="4757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Franklin Gothic Medium"/>
              </a:rPr>
              <a:t>THE END…OR IS IT THE BEGINNING?</a:t>
            </a:r>
            <a:endParaRPr b="0" lang="en-US" sz="6000" spc="-1" strike="noStrike">
              <a:solidFill>
                <a:srgbClr val="005586"/>
              </a:solidFill>
              <a:latin typeface="Franklin Gothic Medium"/>
            </a:endParaRPr>
          </a:p>
        </p:txBody>
      </p:sp>
      <p:grpSp>
        <p:nvGrpSpPr>
          <p:cNvPr id="197" name="Group 18"/>
          <p:cNvGrpSpPr/>
          <p:nvPr/>
        </p:nvGrpSpPr>
        <p:grpSpPr>
          <a:xfrm>
            <a:off x="6156360" y="0"/>
            <a:ext cx="2781360" cy="6858000"/>
            <a:chOff x="6156360" y="0"/>
            <a:chExt cx="2781360" cy="6858000"/>
          </a:xfrm>
        </p:grpSpPr>
        <p:pic>
          <p:nvPicPr>
            <p:cNvPr id="198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56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14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42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61600" y="1080720"/>
            <a:ext cx="6769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</a:rPr>
              <a:t>REVIEW SESSION 9 </a:t>
            </a:r>
            <a:br>
              <a:rPr sz="2800"/>
            </a:b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STAYING FRESH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61600" y="25099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ersonalise the trai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stretching your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ork out a rhyth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close relationship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cour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125360"/>
            <a:ext cx="7543800" cy="31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Medium"/>
              </a:rPr>
              <a:t>SESSION 10</a:t>
            </a:r>
            <a:r>
              <a:rPr b="0" lang="en-GB" sz="54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5400"/>
            </a:br>
            <a:r>
              <a:rPr b="0" lang="en-GB" sz="7200" spc="-1" strike="noStrike">
                <a:solidFill>
                  <a:srgbClr val="000000"/>
                </a:solidFill>
                <a:latin typeface="Franklin Gothic Medium"/>
              </a:rPr>
              <a:t>CONTINUING WELL</a:t>
            </a:r>
            <a:endParaRPr b="0" lang="en-US" sz="72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1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1773000"/>
            <a:ext cx="678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have fun together giving thanks for what God has done through Growing Lead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the next step for each participa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pray for lead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5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30920" y="3933720"/>
            <a:ext cx="2413080" cy="29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486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PURPOSE - TO DEVELOP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14480" y="161928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dependent on the grace of God, confident about who they are in Christ, and empowered by the Holy Spiri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clear about their unique call and consistent in living it ou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serving the church and world with lives modelled on the servant character of Jesu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passionately committed to evangelism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skilled and competent to lead at a time of great challenge and chang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-541440" y="5732640"/>
            <a:ext cx="1441440" cy="142848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8607600" y="333360"/>
            <a:ext cx="1072800" cy="108576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539640" y="2303640"/>
            <a:ext cx="56167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1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irm foundations for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2 </a:t>
            </a:r>
            <a:r>
              <a:rPr b="0" lang="en-GB" sz="2800" spc="-1" strike="noStrike">
                <a:solidFill>
                  <a:srgbClr val="ff650f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y skills of Christi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3 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eping faithful in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39640" y="121932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GROWING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Tahoma"/>
              </a:rPr>
              <a:t> 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6156360" y="0"/>
            <a:ext cx="2781360" cy="6858000"/>
            <a:chOff x="6156360" y="0"/>
            <a:chExt cx="2781360" cy="6858000"/>
          </a:xfrm>
        </p:grpSpPr>
        <p:pic>
          <p:nvPicPr>
            <p:cNvPr id="153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56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14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42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92240" y="196920"/>
            <a:ext cx="8748720" cy="6472080"/>
          </a:xfrm>
          <a:prstGeom prst="rect">
            <a:avLst/>
          </a:prstGeom>
          <a:solidFill>
            <a:srgbClr val="95cc48"/>
          </a:solidFill>
          <a:ln w="9360">
            <a:solidFill>
              <a:srgbClr val="95cc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"/>
          <p:cNvSpPr/>
          <p:nvPr/>
        </p:nvSpPr>
        <p:spPr>
          <a:xfrm>
            <a:off x="1447920" y="457200"/>
            <a:ext cx="6324480" cy="594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2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2247840" y="1143000"/>
            <a:ext cx="464832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429000" y="297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1906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116680" y="4800600"/>
            <a:ext cx="23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429000" y="609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300720" y="20001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87360" y="45720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Straight Arrow Connector 5"/>
          <p:cNvCxnSpPr/>
          <p:nvPr/>
        </p:nvCxnSpPr>
        <p:spPr>
          <a:xfrm flipH="1">
            <a:off x="2771280" y="3697200"/>
            <a:ext cx="1315440" cy="77400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166" name="Straight Arrow Connector 24"/>
          <p:cNvCxnSpPr/>
          <p:nvPr/>
        </p:nvCxnSpPr>
        <p:spPr>
          <a:xfrm>
            <a:off x="5094000" y="3715920"/>
            <a:ext cx="1253160" cy="78516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167" name="Straight Arrow Connector 31"/>
          <p:cNvCxnSpPr/>
          <p:nvPr/>
        </p:nvCxnSpPr>
        <p:spPr>
          <a:xfrm flipV="1">
            <a:off x="4554000" y="1382400"/>
            <a:ext cx="24840" cy="146592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sp>
        <p:nvSpPr>
          <p:cNvPr id="168" name="Text Box 12"/>
          <p:cNvSpPr/>
          <p:nvPr/>
        </p:nvSpPr>
        <p:spPr>
          <a:xfrm>
            <a:off x="4041360" y="4538520"/>
            <a:ext cx="109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u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 rot="3449400">
            <a:off x="5103000" y="2735640"/>
            <a:ext cx="1267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red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 rot="18157200">
            <a:off x="2768400" y="2663280"/>
            <a:ext cx="139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nf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f36c23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755640" y="150804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PART 1 – FIRM FOUNDATIONS FOR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124000" y="2762280"/>
            <a:ext cx="6459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1: Leadership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2: Establishing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3: Clarifying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4: Developing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8-03T14:21:36Z</dcterms:modified>
  <cp:revision>81</cp:revision>
  <dc:subject/>
  <dc:title>PowerPoint Presentation</dc:title>
</cp:coreProperties>
</file>