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7.jpeg" ContentType="image/jpeg"/>
  <Override PartName="/ppt/media/image2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10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6.png" ContentType="image/png"/>
  <Override PartName="/ppt/media/image34.wmf" ContentType="image/x-wmf"/>
  <Override PartName="/ppt/media/image13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5.jpeg" ContentType="image/jpeg"/>
  <Override PartName="/ppt/media/image16.jpeg" ContentType="image/jpeg"/>
  <Override PartName="/ppt/media/image17.wmf" ContentType="image/x-wmf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2.png" ContentType="image/png"/>
  <Override PartName="/ppt/media/image23.jpeg" ContentType="image/jpeg"/>
  <Override PartName="/ppt/media/image24.jpeg" ContentType="image/jpeg"/>
  <Override PartName="/ppt/media/image22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7F8A5EF-38F2-4027-BAA7-7D7E049259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D81A-5FF1-4BCB-B6A7-CFC553B8A41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334D1ED-2174-432E-AF20-5383F90307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713D7C8-0240-4F9D-AE19-E1D897A6F7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4BD80B1-E57A-4C85-8C47-C5B7A5D94A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8120" cy="2286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320840" y="3200400"/>
            <a:ext cx="4116240" cy="59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D09CFC4-EE39-4794-A49E-E91896B50C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8120" cy="2286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320840" y="3200400"/>
            <a:ext cx="4116240" cy="599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55BDCCF-1A3B-41A2-B940-332C43692A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4D5437A-559A-4B65-86B4-CC46B38B24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8120" cy="2286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320840" y="3200400"/>
            <a:ext cx="4116240" cy="59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iscerning Vision (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: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LP 5: Res 2 – 1 Oct 20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03EC2686-145A-427B-B3DE-CC01A7FF15B4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7720" cy="27208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336A594-0CE9-4575-A254-291EBE971A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9160" cy="27208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05EE302-F38A-4EC6-9374-46CEF68A53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D8E5315-62C5-4C20-86FD-C043FE612D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EF09600-0255-40F4-9714-2BD11BB25E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87C9703-76BE-4709-A708-7E12B58466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9031E67-4559-446B-A501-4B951EEFCC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9EBC0CC-C998-40A5-AD77-A5B42EE7A4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5AF1AFB-C338-4B45-9DEC-7E9A442D8E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0BA377B-1BEE-45CF-A29B-2EB2560E7A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55D9871-5E2A-458C-BFE2-55C0BEF337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31A3462-B066-408F-AE1F-D6E8271E70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5E31B91-F8A4-434A-9E07-E5649C8809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2262A38-DDDC-4AA1-983E-1DE62CFB7C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9A8E59B-2047-47A5-9D84-F95A8D96B0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BD03340-9240-449E-8C55-1E792E2503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25E830C-7CB5-4530-83E7-060381E75E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A308679-542F-407E-83CD-6D3D721EAC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3D846C8-655D-42D5-8BE1-8AE333DD3A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B96D226-D786-4D1F-9C55-5EEA0B8C08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2E61D1B-51CB-4947-A307-15A16A494A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BF1D433-66CD-431D-8B69-2F6CFE89B5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F76A3A9-CE01-40F8-8D13-A793EBA1A4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ng: Jesus remember 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1CC57B9-6E3E-4F03-AE19-C009EE2840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CBB58BC-57C7-4303-BAB5-EA0824101C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97DA73C-E2AE-4374-BCA5-8B4DC7ADC6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5624ACC-2E3E-4BE9-81E9-B1EBE41760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576440" y="826920"/>
            <a:ext cx="3722760" cy="27925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06480" y="3843360"/>
            <a:ext cx="4984560" cy="53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C3E57A6-7C8B-437C-805E-D8F7A79569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2E1561F-CE74-4B2F-9977-7A51D801AB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44D96C8-0385-4A07-ACD1-7609FA2260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A42DB37-73C1-4CC0-B9B3-60CE1BCA6D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93E963A-9B03-40D7-A25A-EF7BE4FC14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124DC6C-B82E-4D69-A66B-C7351FFF24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5904BEE-C7BB-4300-A118-873EDD8637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1860863-C22D-4F0D-BC83-45C2716D65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ackground music he was pierced for our transgress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ead Isa over top slow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y his wounds we are hea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He had no form or majesty that we should look at h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othing in his appearance that we should desire h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He was despised and rejected by oth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man of suffering acquainted with infirm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nd as one from whom others hide their f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he was despised, and we held him of no accou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urely he has borne our infirmities and carried our dise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yet we accounted him stricken, struck down by God, and afflic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ut he was wounded for our transgressions, crushed for our iniquiti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upon him was the punishment that made us whole, and by his bruises we are heal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By his wounds we are hea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656832A-2E30-4049-8634-997A4ED85A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7544999-DBF6-44A5-B82B-27C37C0CB4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7115F2C-DD98-44EA-B95A-64A4233CA8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A53CB1C-7A24-4CC4-93EA-713008DD57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8CA5A6A-E41D-43C8-8DEE-6755F2BABE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E071CE7-A6F1-4C1F-8AE5-524BF6A7A2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8698728-5DB8-401C-8320-6878CB64BA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9A65133-9F8E-43E2-86AE-FE013B1C49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CB4802D-009D-4E6D-AF7F-52ED6FAE28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20609F8-2AD5-4BEA-B168-EE3AF40BC1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BA04B80-732E-4E75-9274-CF1EC739C2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86AF01A-A904-4C7D-8BC7-D43DD35165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BE7308A-D7F9-4BD9-A94B-4B16397127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1C74A30-D77C-47E1-8BBF-08563CAB23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1818ED3-7804-4792-8C0A-01C541EF0D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81A7F1F-B5A1-4F2F-9901-D3BE5FA723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78E9762-9F0C-45A2-B0A3-AF8E41EA41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A7AA228-2DC1-4A7E-9405-671350F733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D9BF66A-14C8-4F55-A33A-E92B49FA02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9740D90-FDF3-4F03-8416-BF574B256D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994E20D-2C80-4E4D-AD21-563FC374D9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6639-71C5-4E46-84D7-00C8989AF9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1F5B7AE-40A8-48B6-AAB0-D1D884C04B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FD3003B-AA1E-4A8D-B5F7-BBC272712B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25D36EF-1F65-459A-8F63-30C98B2481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3805F13-7B1E-4CEF-99CD-4C47F4A5DF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B154EB4-0D35-4BCA-9D2A-6CA9324A33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2124000" y="763560"/>
            <a:ext cx="2552760" cy="19144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2895480"/>
            <a:ext cx="4952880" cy="64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03400" y="405756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848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03400" y="405756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78480" y="405756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96240" y="19080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89440" y="19080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03400" y="40575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96240" y="40575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89440" y="40575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03400" y="19080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8480" y="190800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103400" y="76500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8480" y="190800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03400" y="405756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03400" y="19080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848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8480" y="405756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848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03400" y="405756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103400" y="405756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848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03400" y="405756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8480" y="405756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96240" y="19080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89440" y="19080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103400" y="40575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96240" y="40575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689440" y="40575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103400" y="19080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8480" y="190800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103400" y="76500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8480" y="190800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03400" y="405756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848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8480" y="405756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848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03400" y="405756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103400" y="405756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848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03400" y="405756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8480" y="405756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96240" y="19080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89440" y="19080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103400" y="40575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96240" y="40575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689440" y="40575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78480" y="190800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03400" y="76500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8480" y="190800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03400" y="405756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7848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8480" y="405756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340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78480" y="190800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03400" y="405756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03400" y="19080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73040" indent="-47304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Text Box 30"/>
          <p:cNvSpPr/>
          <p:nvPr/>
        </p:nvSpPr>
        <p:spPr>
          <a:xfrm>
            <a:off x="7238880" y="6583320"/>
            <a:ext cx="1828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Slide </a:t>
            </a:r>
            <a:fld id="{8400C117-AC24-41D9-B168-E98DFE599EA0}" type="slidenum"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853920" y="17733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7920" indent="-280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19960" indent="-22392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68160" indent="-22392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16000" indent="-22392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16000" indent="-2239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16000" indent="-2239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853560" y="401400"/>
            <a:ext cx="67820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Text Box 28"/>
          <p:cNvSpPr/>
          <p:nvPr/>
        </p:nvSpPr>
        <p:spPr>
          <a:xfrm>
            <a:off x="7238880" y="6583320"/>
            <a:ext cx="1828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Slide </a:t>
            </a:r>
            <a:fld id="{7E30F7BF-0592-45E0-A866-7E274E074CDA}" type="slidenum"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4.wmf"/><Relationship Id="rId3" Type="http://schemas.openxmlformats.org/officeDocument/2006/relationships/image" Target="../media/image34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8"/>
          <p:cNvGrpSpPr/>
          <p:nvPr/>
        </p:nvGrpSpPr>
        <p:grpSpPr>
          <a:xfrm>
            <a:off x="6183360" y="0"/>
            <a:ext cx="2781360" cy="6858000"/>
            <a:chOff x="6183360" y="0"/>
            <a:chExt cx="2781360" cy="6858000"/>
          </a:xfrm>
        </p:grpSpPr>
        <p:pic>
          <p:nvPicPr>
            <p:cNvPr id="124" name="Picture 15" descr="Hoop_green.jpg"/>
            <p:cNvPicPr/>
            <p:nvPr/>
          </p:nvPicPr>
          <p:blipFill>
            <a:blip r:embed="rId1"/>
            <a:stretch/>
          </p:blipFill>
          <p:spPr>
            <a:xfrm>
              <a:off x="6183360" y="3213000"/>
              <a:ext cx="2018880" cy="16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6" descr="Hoop_orange.jpg"/>
            <p:cNvPicPr/>
            <p:nvPr/>
          </p:nvPicPr>
          <p:blipFill>
            <a:blip r:embed="rId2"/>
            <a:stretch/>
          </p:blipFill>
          <p:spPr>
            <a:xfrm>
              <a:off x="6641640" y="548640"/>
              <a:ext cx="232308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4" descr="Branch.jpg"/>
            <p:cNvPicPr/>
            <p:nvPr/>
          </p:nvPicPr>
          <p:blipFill>
            <a:blip r:embed="rId3"/>
            <a:stretch/>
          </p:blipFill>
          <p:spPr>
            <a:xfrm>
              <a:off x="6569280" y="0"/>
              <a:ext cx="1941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TextBox 6"/>
          <p:cNvSpPr/>
          <p:nvPr/>
        </p:nvSpPr>
        <p:spPr>
          <a:xfrm>
            <a:off x="1014480" y="2055960"/>
            <a:ext cx="7950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5586"/>
                </a:solidFill>
                <a:latin typeface="Franklin Gothic Medium"/>
                <a:ea typeface="Arial"/>
              </a:rPr>
              <a:t>GROWING LEADERS COURS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12"/>
          <p:cNvGrpSpPr/>
          <p:nvPr/>
        </p:nvGrpSpPr>
        <p:grpSpPr>
          <a:xfrm>
            <a:off x="3132000" y="104960880"/>
            <a:ext cx="3800160" cy="10299600"/>
            <a:chOff x="3132000" y="104960880"/>
            <a:chExt cx="3800160" cy="10299600"/>
          </a:xfrm>
        </p:grpSpPr>
        <p:pic>
          <p:nvPicPr>
            <p:cNvPr id="129" name="Picture 13" descr="Hoop-black"/>
            <p:cNvPicPr/>
            <p:nvPr/>
          </p:nvPicPr>
          <p:blipFill>
            <a:blip r:embed="rId4"/>
            <a:stretch/>
          </p:blipFill>
          <p:spPr>
            <a:xfrm>
              <a:off x="3132000" y="109233000"/>
              <a:ext cx="2638440" cy="214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" name="Group 14"/>
            <p:cNvGrpSpPr/>
            <p:nvPr/>
          </p:nvGrpSpPr>
          <p:grpSpPr>
            <a:xfrm>
              <a:off x="4016520" y="104960880"/>
              <a:ext cx="2915640" cy="10299600"/>
              <a:chOff x="4016520" y="104960880"/>
              <a:chExt cx="2915640" cy="10299600"/>
            </a:xfrm>
          </p:grpSpPr>
          <p:pic>
            <p:nvPicPr>
              <p:cNvPr id="131" name="Picture 15" descr=""/>
              <p:cNvPicPr/>
              <p:nvPr/>
            </p:nvPicPr>
            <p:blipFill>
              <a:blip r:embed="rId5"/>
              <a:srcRect l="-1829" t="-1216" r="0" b="-1515"/>
              <a:stretch/>
            </p:blipFill>
            <p:spPr>
              <a:xfrm flipH="1">
                <a:off x="4370760" y="105824880"/>
                <a:ext cx="2423520" cy="173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Picture 16" descr="Curve_orange"/>
              <p:cNvPicPr/>
              <p:nvPr/>
            </p:nvPicPr>
            <p:blipFill>
              <a:blip r:embed="rId6"/>
              <a:srcRect l="-3210" t="19915" r="0" b="3255"/>
              <a:stretch/>
            </p:blipFill>
            <p:spPr>
              <a:xfrm rot="10800000">
                <a:off x="4016520" y="104960880"/>
                <a:ext cx="2915640" cy="10299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3" name="Rectangle 17"/>
          <p:cNvSpPr/>
          <p:nvPr/>
        </p:nvSpPr>
        <p:spPr>
          <a:xfrm>
            <a:off x="107118000" y="105011640"/>
            <a:ext cx="4542120" cy="10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3" descr=""/>
          <p:cNvPicPr/>
          <p:nvPr/>
        </p:nvPicPr>
        <p:blipFill>
          <a:blip r:embed="rId7"/>
          <a:stretch/>
        </p:blipFill>
        <p:spPr>
          <a:xfrm>
            <a:off x="527040" y="-243000"/>
            <a:ext cx="1812960" cy="1812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2627280" y="5877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Life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684360" y="5805360"/>
            <a:ext cx="806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6"/>
          <p:cNvSpPr/>
          <p:nvPr/>
        </p:nvSpPr>
        <p:spPr>
          <a:xfrm flipV="1">
            <a:off x="684360" y="404640"/>
            <a:ext cx="0" cy="540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 rot="5400000">
            <a:off x="-1933200" y="28749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Awareness of God’s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611280" y="5877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anklin Gothic Book"/>
              </a:rPr>
              <a:t>bi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7667640" y="5877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anklin Gothic Book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0"/>
          <p:cNvSpPr/>
          <p:nvPr/>
        </p:nvSpPr>
        <p:spPr>
          <a:xfrm rot="5400000">
            <a:off x="-225360" y="548784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anklin Gothic Book"/>
              </a:rPr>
              <a:t>una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1"/>
          <p:cNvSpPr/>
          <p:nvPr/>
        </p:nvSpPr>
        <p:spPr>
          <a:xfrm rot="5400000">
            <a:off x="-70920" y="7246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anklin Gothic Book"/>
              </a:rPr>
              <a:t>a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0" y="1628640"/>
            <a:ext cx="3960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CONSIDERING CALLING – </a:t>
            </a:r>
            <a:br>
              <a:rPr sz="4400"/>
            </a:b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WHY DOES IT MATTER?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170" name="Picture 3" descr="Handshake"/>
          <p:cNvPicPr/>
          <p:nvPr/>
        </p:nvPicPr>
        <p:blipFill>
          <a:blip r:embed="rId1"/>
          <a:stretch/>
        </p:blipFill>
        <p:spPr>
          <a:xfrm>
            <a:off x="317520" y="311040"/>
            <a:ext cx="3894120" cy="623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1" name="Rectangle 5"/>
          <p:cNvSpPr/>
          <p:nvPr/>
        </p:nvSpPr>
        <p:spPr>
          <a:xfrm>
            <a:off x="317520" y="311040"/>
            <a:ext cx="843120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j0386303"/>
          <p:cNvPicPr/>
          <p:nvPr/>
        </p:nvPicPr>
        <p:blipFill>
          <a:blip r:embed="rId1"/>
          <a:stretch/>
        </p:blipFill>
        <p:spPr>
          <a:xfrm>
            <a:off x="324000" y="311040"/>
            <a:ext cx="4103640" cy="62359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4578480" y="1484280"/>
            <a:ext cx="39607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Franklin Gothic Book"/>
              </a:rPr>
              <a:t>Identify the three or four things that most matter to yo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Franklin Gothic Book"/>
              </a:rPr>
              <a:t>Are these things really receiving the care, time and attention you want to give them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684360" y="5445000"/>
            <a:ext cx="36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1…2…3…4…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17520" y="311040"/>
            <a:ext cx="843120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MPj03156020000[1]"/>
          <p:cNvPicPr/>
          <p:nvPr/>
        </p:nvPicPr>
        <p:blipFill>
          <a:blip r:embed="rId1"/>
          <a:srcRect l="2077" t="0" r="2077" b="0"/>
          <a:stretch/>
        </p:blipFill>
        <p:spPr>
          <a:xfrm>
            <a:off x="395280" y="290520"/>
            <a:ext cx="8313840" cy="62341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185840" y="549360"/>
            <a:ext cx="67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Franklin Gothic Medium"/>
              </a:rPr>
              <a:t>A BALANCED LIFE?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4"/>
          <p:cNvSpPr/>
          <p:nvPr/>
        </p:nvSpPr>
        <p:spPr>
          <a:xfrm>
            <a:off x="900000" y="3429000"/>
            <a:ext cx="7201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3672000" y="3429000"/>
            <a:ext cx="1800000" cy="1152360"/>
          </a:xfrm>
          <a:prstGeom prst="triangle">
            <a:avLst>
              <a:gd name="adj" fmla="val 50000"/>
            </a:avLst>
          </a:prstGeom>
          <a:solidFill>
            <a:srgbClr val="eb6d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971640" y="2852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Medium"/>
              </a:rPr>
              <a:t>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6804000" y="2852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Medium"/>
              </a:rPr>
              <a:t>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133%20Plate%20spinning"/>
          <p:cNvPicPr/>
          <p:nvPr/>
        </p:nvPicPr>
        <p:blipFill>
          <a:blip r:embed="rId1"/>
          <a:stretch/>
        </p:blipFill>
        <p:spPr>
          <a:xfrm>
            <a:off x="539640" y="404640"/>
            <a:ext cx="3745080" cy="4991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3" name="Picture 4" descr="j0386303"/>
          <p:cNvPicPr/>
          <p:nvPr/>
        </p:nvPicPr>
        <p:blipFill>
          <a:blip r:embed="rId2"/>
          <a:stretch/>
        </p:blipFill>
        <p:spPr>
          <a:xfrm>
            <a:off x="4859280" y="836640"/>
            <a:ext cx="3732120" cy="5664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j0422737"/>
          <p:cNvPicPr/>
          <p:nvPr/>
        </p:nvPicPr>
        <p:blipFill>
          <a:blip r:embed="rId1"/>
          <a:srcRect l="0" t="19560" r="158" b="14882"/>
          <a:stretch/>
        </p:blipFill>
        <p:spPr>
          <a:xfrm>
            <a:off x="415800" y="311040"/>
            <a:ext cx="8312400" cy="623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15800" y="1628640"/>
            <a:ext cx="8312400" cy="3765600"/>
          </a:xfrm>
          <a:prstGeom prst="rect">
            <a:avLst/>
          </a:prstGeom>
          <a:solidFill>
            <a:srgbClr val="000000">
              <a:alpha val="5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8f8f8"/>
                </a:solidFill>
                <a:latin typeface="Franklin Gothic Medium"/>
              </a:rPr>
              <a:t>EACH PERSON IS CALLED TO…</a:t>
            </a:r>
            <a:br>
              <a:rPr sz="4000"/>
            </a:br>
            <a:r>
              <a:rPr b="0" lang="en-GB" sz="4000" spc="-1" strike="noStrike">
                <a:solidFill>
                  <a:srgbClr val="ffff99"/>
                </a:solidFill>
                <a:latin typeface="Franklin Gothic Medium"/>
              </a:rPr>
              <a:t>GLORIFY GOD </a:t>
            </a:r>
            <a:br>
              <a:rPr sz="4000"/>
            </a:br>
            <a:r>
              <a:rPr b="0" lang="en-GB" sz="4000" spc="-1" strike="noStrike">
                <a:solidFill>
                  <a:srgbClr val="f8f8f8"/>
                </a:solidFill>
                <a:latin typeface="Franklin Gothic Medium"/>
              </a:rPr>
              <a:t>AND BE FRUITFUL IN </a:t>
            </a:r>
            <a:r>
              <a:rPr b="0" lang="en-GB" sz="4000" spc="-1" strike="noStrike">
                <a:solidFill>
                  <a:srgbClr val="ffff99"/>
                </a:solidFill>
                <a:latin typeface="Franklin Gothic Medium"/>
              </a:rPr>
              <a:t>GOOD WORKS</a:t>
            </a:r>
            <a:br>
              <a:rPr sz="4000"/>
            </a:br>
            <a:r>
              <a:rPr b="0" lang="en-GB" sz="4000" spc="-1" strike="noStrike">
                <a:solidFill>
                  <a:srgbClr val="f8f8f8"/>
                </a:solidFill>
                <a:latin typeface="Franklin Gothic Medium"/>
              </a:rPr>
              <a:t>THROUGH A </a:t>
            </a:r>
            <a:r>
              <a:rPr b="0" lang="en-GB" sz="4000" spc="-1" strike="noStrike">
                <a:solidFill>
                  <a:srgbClr val="ffff99"/>
                </a:solidFill>
                <a:latin typeface="Franklin Gothic Medium"/>
              </a:rPr>
              <a:t>SURRENDERED</a:t>
            </a:r>
            <a:r>
              <a:rPr b="0" lang="en-GB" sz="4000" spc="-1" strike="noStrike">
                <a:solidFill>
                  <a:srgbClr val="f8f8f8"/>
                </a:solidFill>
                <a:latin typeface="Franklin Gothic Medium"/>
              </a:rPr>
              <a:t> LIFE </a:t>
            </a:r>
            <a:br>
              <a:rPr sz="4000"/>
            </a:br>
            <a:r>
              <a:rPr b="0" lang="en-GB" sz="4000" spc="-1" strike="noStrike">
                <a:solidFill>
                  <a:srgbClr val="f8f8f8"/>
                </a:solidFill>
                <a:latin typeface="Franklin Gothic Medium"/>
              </a:rPr>
              <a:t>LEADING TO AN </a:t>
            </a:r>
            <a:r>
              <a:rPr b="0" lang="en-GB" sz="4000" spc="-1" strike="noStrike">
                <a:solidFill>
                  <a:srgbClr val="ffff99"/>
                </a:solidFill>
                <a:latin typeface="Franklin Gothic Medium"/>
              </a:rPr>
              <a:t>ABUNDANT</a:t>
            </a:r>
            <a:r>
              <a:rPr b="0" lang="en-GB" sz="4000" spc="-1" strike="noStrike">
                <a:solidFill>
                  <a:srgbClr val="f8f8f8"/>
                </a:solidFill>
                <a:latin typeface="Franklin Gothic Medium"/>
              </a:rPr>
              <a:t> LIFE LIVED OUT IN A </a:t>
            </a:r>
            <a:r>
              <a:rPr b="0" lang="en-GB" sz="4000" spc="-1" strike="noStrike">
                <a:solidFill>
                  <a:srgbClr val="ffff99"/>
                </a:solidFill>
                <a:latin typeface="Franklin Gothic Medium"/>
              </a:rPr>
              <a:t>BLENDED</a:t>
            </a:r>
            <a:r>
              <a:rPr b="0" lang="en-GB" sz="4000" spc="-1" strike="noStrike">
                <a:solidFill>
                  <a:srgbClr val="f8f8f8"/>
                </a:solidFill>
                <a:latin typeface="Franklin Gothic Medium"/>
              </a:rPr>
              <a:t> LIFE.</a:t>
            </a:r>
            <a:endParaRPr b="0" lang="en-US" sz="40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  <p:transition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Oval 2"/>
          <p:cNvSpPr/>
          <p:nvPr/>
        </p:nvSpPr>
        <p:spPr>
          <a:xfrm>
            <a:off x="431640" y="1268280"/>
            <a:ext cx="8280720" cy="4897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eb6d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757160" y="1989000"/>
            <a:ext cx="250812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Occupatio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3598920" y="3049560"/>
            <a:ext cx="2016000" cy="1317600"/>
          </a:xfrm>
          <a:prstGeom prst="ellipse">
            <a:avLst/>
          </a:prstGeom>
          <a:solidFill>
            <a:srgbClr val="eb6d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4572000" y="1414440"/>
            <a:ext cx="0" cy="1513080"/>
          </a:xfrm>
          <a:prstGeom prst="line">
            <a:avLst/>
          </a:prstGeom>
          <a:ln w="19080">
            <a:solidFill>
              <a:srgbClr val="eb6d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6"/>
          <p:cNvSpPr/>
          <p:nvPr/>
        </p:nvSpPr>
        <p:spPr>
          <a:xfrm flipV="1">
            <a:off x="5782320" y="2779560"/>
            <a:ext cx="1396800" cy="582120"/>
          </a:xfrm>
          <a:prstGeom prst="line">
            <a:avLst/>
          </a:prstGeom>
          <a:ln w="19080">
            <a:solidFill>
              <a:srgbClr val="eb6d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2107800" y="2810880"/>
            <a:ext cx="1329480" cy="518400"/>
          </a:xfrm>
          <a:prstGeom prst="line">
            <a:avLst/>
          </a:prstGeom>
          <a:ln w="19080">
            <a:solidFill>
              <a:srgbClr val="eb6d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5070600" y="1989000"/>
            <a:ext cx="2592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Re-cre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3635280" y="3284640"/>
            <a:ext cx="1844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Franklin Gothic Medium"/>
              </a:rPr>
              <a:t>GO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5796000" y="3429000"/>
            <a:ext cx="31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826920" y="3394080"/>
            <a:ext cx="2508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Spiri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4932360" y="4797360"/>
            <a:ext cx="2508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Phys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1847880" y="4797360"/>
            <a:ext cx="2508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Emo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4"/>
          <p:cNvSpPr/>
          <p:nvPr/>
        </p:nvSpPr>
        <p:spPr>
          <a:xfrm>
            <a:off x="5706720" y="4250880"/>
            <a:ext cx="1329480" cy="518040"/>
          </a:xfrm>
          <a:prstGeom prst="line">
            <a:avLst/>
          </a:prstGeom>
          <a:ln w="19080">
            <a:solidFill>
              <a:srgbClr val="eb6d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5"/>
          <p:cNvSpPr/>
          <p:nvPr/>
        </p:nvSpPr>
        <p:spPr>
          <a:xfrm flipV="1">
            <a:off x="2108880" y="4146480"/>
            <a:ext cx="1396800" cy="582120"/>
          </a:xfrm>
          <a:prstGeom prst="line">
            <a:avLst/>
          </a:prstGeom>
          <a:ln w="19080">
            <a:solidFill>
              <a:srgbClr val="eb6d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6"/>
          <p:cNvSpPr/>
          <p:nvPr/>
        </p:nvSpPr>
        <p:spPr>
          <a:xfrm>
            <a:off x="4572000" y="4510080"/>
            <a:ext cx="0" cy="1512720"/>
          </a:xfrm>
          <a:prstGeom prst="line">
            <a:avLst/>
          </a:prstGeom>
          <a:ln w="19080">
            <a:solidFill>
              <a:srgbClr val="eb6d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1620720" y="260280"/>
            <a:ext cx="590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A BLENDED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533520" y="1523880"/>
            <a:ext cx="81532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Papyrus"/>
                <a:ea typeface="Times New Roman"/>
              </a:rPr>
              <a:t>I </a:t>
            </a:r>
            <a:r>
              <a:rPr b="1" lang="en-GB" sz="12900" spc="-1" strike="noStrike">
                <a:solidFill>
                  <a:srgbClr val="ffffff"/>
                </a:solidFill>
                <a:latin typeface="Papyrus"/>
                <a:ea typeface="Times New Roman"/>
              </a:rPr>
              <a:t>surrender…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052280"/>
            <a:ext cx="7417080" cy="14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b6d21"/>
                </a:solidFill>
                <a:latin typeface="Franklin Gothic Medium"/>
              </a:rPr>
              <a:t>REVIEW SESSION 2 </a:t>
            </a:r>
            <a:br>
              <a:rPr sz="3200"/>
            </a:br>
            <a:r>
              <a:rPr b="0" lang="en-GB" sz="5400" spc="-1" strike="noStrike">
                <a:solidFill>
                  <a:srgbClr val="005586"/>
                </a:solidFill>
                <a:latin typeface="Franklin Gothic Medium"/>
              </a:rPr>
              <a:t>ESTABLISHING IDENTITY</a:t>
            </a: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 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60480" y="26971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spcBef>
                <a:spcPts val="799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John 15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60360" indent="-360360">
              <a:spcBef>
                <a:spcPts val="799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Cycles of grief and grac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60360" indent="-360360">
              <a:spcBef>
                <a:spcPts val="799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Spiritual discipline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257480" y="1905120"/>
            <a:ext cx="66294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Papyrus"/>
                <a:ea typeface="Times New Roman"/>
              </a:rPr>
              <a:t>…</a:t>
            </a:r>
            <a:r>
              <a:rPr b="1" lang="en-GB" sz="6000" spc="-1" strike="noStrike">
                <a:solidFill>
                  <a:srgbClr val="ffffff"/>
                </a:solidFill>
                <a:latin typeface="Papyrus"/>
                <a:ea typeface="Times New Roman"/>
              </a:rPr>
              <a:t>my hopes and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Papyrus"/>
                <a:ea typeface="Times New Roman"/>
              </a:rPr>
              <a:t>my drea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4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533520" y="1523880"/>
            <a:ext cx="81532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Papyrus"/>
                <a:ea typeface="Times New Roman"/>
              </a:rPr>
              <a:t>I </a:t>
            </a:r>
            <a:r>
              <a:rPr b="1" lang="en-GB" sz="12900" spc="-1" strike="noStrike">
                <a:solidFill>
                  <a:srgbClr val="ffffff"/>
                </a:solidFill>
                <a:latin typeface="Papyrus"/>
                <a:ea typeface="Times New Roman"/>
              </a:rPr>
              <a:t>surrender…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762120" y="2209680"/>
            <a:ext cx="723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Papyrus"/>
                <a:ea typeface="Times New Roman"/>
              </a:rPr>
              <a:t>…</a:t>
            </a:r>
            <a:r>
              <a:rPr b="1" lang="en-GB" sz="6600" spc="-1" strike="noStrike">
                <a:solidFill>
                  <a:srgbClr val="ffffff"/>
                </a:solidFill>
                <a:latin typeface="Papyrus"/>
                <a:ea typeface="Times New Roman"/>
              </a:rPr>
              <a:t>my comfort and my securit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Jesus on the cross"/>
          <p:cNvPicPr/>
          <p:nvPr/>
        </p:nvPicPr>
        <p:blipFill>
          <a:blip r:embed="rId1"/>
          <a:stretch/>
        </p:blipFill>
        <p:spPr>
          <a:xfrm>
            <a:off x="-533520" y="-1004760"/>
            <a:ext cx="9906120" cy="8243640"/>
          </a:xfrm>
          <a:prstGeom prst="rect">
            <a:avLst/>
          </a:prstGeom>
          <a:ln w="0">
            <a:noFill/>
          </a:ln>
        </p:spPr>
      </p:pic>
    </p:spTree>
  </p:cSld>
  <p:transition advTm="4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533520" y="1523880"/>
            <a:ext cx="81532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Papyrus"/>
                <a:ea typeface="Times New Roman"/>
              </a:rPr>
              <a:t>I </a:t>
            </a:r>
            <a:r>
              <a:rPr b="1" lang="en-GB" sz="12900" spc="-1" strike="noStrike">
                <a:solidFill>
                  <a:srgbClr val="ffffff"/>
                </a:solidFill>
                <a:latin typeface="Papyrus"/>
                <a:ea typeface="Times New Roman"/>
              </a:rPr>
              <a:t>surrender…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66680" y="2057400"/>
            <a:ext cx="66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f"/>
                </a:solidFill>
                <a:latin typeface="Papyrus"/>
                <a:ea typeface="Times New Roman"/>
              </a:rPr>
              <a:t>…</a:t>
            </a:r>
            <a:r>
              <a:rPr b="1" lang="en-GB" sz="7200" spc="-1" strike="noStrike">
                <a:solidFill>
                  <a:srgbClr val="ffffff"/>
                </a:solidFill>
                <a:latin typeface="Papyrus"/>
                <a:ea typeface="Times New Roman"/>
              </a:rPr>
              <a:t>my ambition and my desi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990720" y="-1440"/>
            <a:ext cx="7315200" cy="6930720"/>
          </a:xfrm>
          <a:prstGeom prst="rect">
            <a:avLst/>
          </a:prstGeom>
          <a:ln w="0">
            <a:noFill/>
          </a:ln>
        </p:spPr>
      </p:pic>
    </p:spTree>
  </p:cSld>
  <p:transition advTm="4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533520" y="1523880"/>
            <a:ext cx="81532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Papyrus"/>
                <a:ea typeface="Times New Roman"/>
              </a:rPr>
              <a:t>I </a:t>
            </a:r>
            <a:r>
              <a:rPr b="1" lang="en-GB" sz="12900" spc="-1" strike="noStrike">
                <a:solidFill>
                  <a:srgbClr val="ffffff"/>
                </a:solidFill>
                <a:latin typeface="Papyrus"/>
                <a:ea typeface="Times New Roman"/>
              </a:rPr>
              <a:t>surrender…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1143000" y="1600200"/>
            <a:ext cx="6629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Papyrus"/>
                <a:ea typeface="Times New Roman"/>
              </a:rPr>
              <a:t>…</a:t>
            </a:r>
            <a:r>
              <a:rPr b="1" lang="en-GB" sz="6600" spc="-1" strike="noStrike">
                <a:solidFill>
                  <a:srgbClr val="ffffff"/>
                </a:solidFill>
                <a:latin typeface="Papyrus"/>
                <a:ea typeface="Times New Roman"/>
              </a:rPr>
              <a:t>my pride and my arroganc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9640" y="655560"/>
            <a:ext cx="754380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b6d21"/>
                </a:solidFill>
                <a:latin typeface="Franklin Gothic Medium"/>
              </a:rPr>
              <a:t>SESSION 3</a:t>
            </a:r>
            <a:r>
              <a:rPr b="0" lang="en-GB" sz="6000" spc="-1" strike="noStrike">
                <a:solidFill>
                  <a:srgbClr val="eb6d21"/>
                </a:solidFill>
                <a:latin typeface="Franklin Gothic Medium"/>
              </a:rPr>
              <a:t> </a:t>
            </a:r>
            <a:br>
              <a:rPr sz="6000"/>
            </a:br>
            <a:r>
              <a:rPr b="0" lang="en-GB" sz="8000" spc="-1" strike="noStrike">
                <a:solidFill>
                  <a:srgbClr val="000000"/>
                </a:solidFill>
                <a:latin typeface="Franklin Gothic Medium"/>
              </a:rPr>
              <a:t>CLARIFYING CALL</a:t>
            </a:r>
            <a:endParaRPr b="0" lang="en-US" sz="80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138" name="Picture 13" descr="Hoop_green.jpg"/>
          <p:cNvPicPr/>
          <p:nvPr/>
        </p:nvPicPr>
        <p:blipFill>
          <a:blip r:embed="rId1"/>
          <a:stretch/>
        </p:blipFill>
        <p:spPr>
          <a:xfrm>
            <a:off x="6516720" y="3789360"/>
            <a:ext cx="2352600" cy="1906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Hoop_orange.jpg"/>
          <p:cNvPicPr/>
          <p:nvPr/>
        </p:nvPicPr>
        <p:blipFill>
          <a:blip r:embed="rId2"/>
          <a:stretch/>
        </p:blipFill>
        <p:spPr>
          <a:xfrm>
            <a:off x="6300720" y="4780080"/>
            <a:ext cx="2422440" cy="1733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2209680" y="76320"/>
            <a:ext cx="5167440" cy="6781680"/>
          </a:xfrm>
          <a:prstGeom prst="rect">
            <a:avLst/>
          </a:prstGeom>
          <a:ln w="0">
            <a:noFill/>
          </a:ln>
        </p:spPr>
      </p:pic>
    </p:spTree>
  </p:cSld>
  <p:transition advTm="4000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533520" y="1523880"/>
            <a:ext cx="81532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Papyrus"/>
                <a:ea typeface="Times New Roman"/>
              </a:rPr>
              <a:t>I </a:t>
            </a:r>
            <a:r>
              <a:rPr b="1" lang="en-GB" sz="12900" spc="-1" strike="noStrike">
                <a:solidFill>
                  <a:srgbClr val="ffffff"/>
                </a:solidFill>
                <a:latin typeface="Papyrus"/>
                <a:ea typeface="Times New Roman"/>
              </a:rPr>
              <a:t>surrender…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1028880" y="1676520"/>
            <a:ext cx="70866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Papyrus"/>
                <a:ea typeface="Times New Roman"/>
              </a:rPr>
              <a:t>…</a:t>
            </a:r>
            <a:r>
              <a:rPr b="1" lang="en-GB" sz="6000" spc="-1" strike="noStrike">
                <a:solidFill>
                  <a:srgbClr val="ffffff"/>
                </a:solidFill>
                <a:latin typeface="Papyrus"/>
                <a:ea typeface="Times New Roman"/>
              </a:rPr>
              <a:t>my gifts and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Papyrus"/>
                <a:ea typeface="Times New Roman"/>
              </a:rPr>
              <a:t>my pass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rcRect l="0" t="0" r="0" b="64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533520" y="1523880"/>
            <a:ext cx="81532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Papyrus"/>
                <a:ea typeface="Times New Roman"/>
              </a:rPr>
              <a:t>I </a:t>
            </a:r>
            <a:r>
              <a:rPr b="1" lang="en-GB" sz="12900" spc="-1" strike="noStrike">
                <a:solidFill>
                  <a:srgbClr val="ffffff"/>
                </a:solidFill>
                <a:latin typeface="Papyrus"/>
                <a:ea typeface="Times New Roman"/>
              </a:rPr>
              <a:t>surrender…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04920" y="1905120"/>
            <a:ext cx="7391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Papyrus"/>
                <a:ea typeface="Times New Roman"/>
              </a:rPr>
              <a:t>…</a:t>
            </a:r>
            <a:r>
              <a:rPr b="1" lang="en-GB" sz="8000" spc="-1" strike="noStrike">
                <a:solidFill>
                  <a:srgbClr val="ffffff"/>
                </a:solidFill>
                <a:latin typeface="Papyrus"/>
                <a:ea typeface="Times New Roman"/>
              </a:rPr>
              <a:t>my fears and inadequaci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rcRect l="10274" t="0" r="10274" b="8461"/>
          <a:stretch/>
        </p:blipFill>
        <p:spPr>
          <a:xfrm>
            <a:off x="2209680" y="1447920"/>
            <a:ext cx="4724640" cy="40654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0" y="63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empus Sans ITC"/>
              </a:rPr>
              <a:t>Jesus said, ‘If I am lifted up I will draw all people to myself’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0" y="5638680"/>
            <a:ext cx="9144000" cy="11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empus Sans ITC"/>
              </a:rPr>
              <a:t>Jesus, remember m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empus Sans ITC"/>
              </a:rPr>
              <a:t>when you come into your king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533520" y="1523880"/>
            <a:ext cx="81532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Papyrus"/>
                <a:ea typeface="Times New Roman"/>
              </a:rPr>
              <a:t>I </a:t>
            </a:r>
            <a:r>
              <a:rPr b="1" lang="en-GB" sz="12900" spc="-1" strike="noStrike">
                <a:solidFill>
                  <a:srgbClr val="ffffff"/>
                </a:solidFill>
                <a:latin typeface="Papyrus"/>
                <a:ea typeface="Times New Roman"/>
              </a:rPr>
              <a:t>surrender…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1028880" y="1828800"/>
            <a:ext cx="7086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Papyrus"/>
                <a:ea typeface="Times New Roman"/>
              </a:rPr>
              <a:t>…</a:t>
            </a:r>
            <a:r>
              <a:rPr b="1" lang="en-GB" sz="6600" spc="-1" strike="noStrike">
                <a:solidFill>
                  <a:srgbClr val="ffffff"/>
                </a:solidFill>
                <a:latin typeface="Papyrus"/>
                <a:ea typeface="Times New Roman"/>
              </a:rPr>
              <a:t>my loves and my lik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transition advTm="4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3"/>
          <p:cNvSpPr/>
          <p:nvPr/>
        </p:nvSpPr>
        <p:spPr>
          <a:xfrm>
            <a:off x="2238480" y="1143000"/>
            <a:ext cx="4647960" cy="3581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eb6d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571920" y="2986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586"/>
                </a:solidFill>
                <a:latin typeface="Franklin Gothic Medium"/>
              </a:rPr>
              <a:t>CH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181240" y="4871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586"/>
                </a:solidFill>
                <a:latin typeface="Franklin Gothic Medium"/>
              </a:rPr>
              <a:t>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3190680" y="3695760"/>
            <a:ext cx="685800" cy="533520"/>
          </a:xfrm>
          <a:prstGeom prst="line">
            <a:avLst/>
          </a:prstGeom>
          <a:ln w="38160">
            <a:solidFill>
              <a:srgbClr val="00558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533520" y="1523880"/>
            <a:ext cx="81532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Papyrus"/>
                <a:ea typeface="Times New Roman"/>
              </a:rPr>
              <a:t>I </a:t>
            </a:r>
            <a:r>
              <a:rPr b="1" lang="en-GB" sz="12900" spc="-1" strike="noStrike">
                <a:solidFill>
                  <a:srgbClr val="ffffff"/>
                </a:solidFill>
                <a:latin typeface="Papyrus"/>
                <a:ea typeface="Times New Roman"/>
              </a:rPr>
              <a:t>surrender…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361800" y="198108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f"/>
                </a:solidFill>
                <a:latin typeface="Papyrus"/>
                <a:ea typeface="Times New Roman"/>
              </a:rPr>
              <a:t>…</a:t>
            </a:r>
            <a:r>
              <a:rPr b="1" lang="en-GB" sz="7200" spc="-1" strike="noStrike">
                <a:solidFill>
                  <a:srgbClr val="ffffff"/>
                </a:solidFill>
                <a:latin typeface="Papyrus"/>
                <a:ea typeface="Times New Roman"/>
              </a:rPr>
              <a:t>my personality and my preferenc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325680" y="17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3" descr="Image number: RL000037"/>
          <p:cNvPicPr/>
          <p:nvPr/>
        </p:nvPicPr>
        <p:blipFill>
          <a:blip r:embed="rId1"/>
          <a:stretch/>
        </p:blipFill>
        <p:spPr>
          <a:xfrm>
            <a:off x="1720800" y="0"/>
            <a:ext cx="5700600" cy="7620120"/>
          </a:xfrm>
          <a:prstGeom prst="rect">
            <a:avLst/>
          </a:prstGeom>
          <a:ln w="0">
            <a:noFill/>
          </a:ln>
        </p:spPr>
      </p:pic>
    </p:spTree>
  </p:cSld>
  <p:transition advTm="4000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533520" y="1523880"/>
            <a:ext cx="81532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Papyrus"/>
                <a:ea typeface="Times New Roman"/>
              </a:rPr>
              <a:t>I </a:t>
            </a:r>
            <a:r>
              <a:rPr b="1" lang="en-GB" sz="12900" spc="-1" strike="noStrike">
                <a:solidFill>
                  <a:srgbClr val="ffffff"/>
                </a:solidFill>
                <a:latin typeface="Papyrus"/>
                <a:ea typeface="Times New Roman"/>
              </a:rPr>
              <a:t>surrender…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38080" y="1676520"/>
            <a:ext cx="70866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Papyrus"/>
                <a:ea typeface="Times New Roman"/>
              </a:rPr>
              <a:t>…</a:t>
            </a:r>
            <a:r>
              <a:rPr b="1" lang="en-GB" sz="6600" spc="-1" strike="noStrike">
                <a:solidFill>
                  <a:srgbClr val="ffffff"/>
                </a:solidFill>
                <a:latin typeface="Papyrus"/>
                <a:ea typeface="Times New Roman"/>
              </a:rPr>
              <a:t>my wealth and </a:t>
            </a:r>
            <a:br>
              <a:rPr sz="6600"/>
            </a:br>
            <a:r>
              <a:rPr b="1" lang="en-GB" sz="6600" spc="-1" strike="noStrike">
                <a:solidFill>
                  <a:srgbClr val="ffffff"/>
                </a:solidFill>
                <a:latin typeface="Papyrus"/>
                <a:ea typeface="Times New Roman"/>
              </a:rPr>
              <a:t>my povert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533520" y="1523880"/>
            <a:ext cx="81532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Papyrus"/>
                <a:ea typeface="Times New Roman"/>
              </a:rPr>
              <a:t>I </a:t>
            </a:r>
            <a:r>
              <a:rPr b="1" lang="en-GB" sz="12900" spc="-1" strike="noStrike">
                <a:solidFill>
                  <a:srgbClr val="ffffff"/>
                </a:solidFill>
                <a:latin typeface="Papyrus"/>
                <a:ea typeface="Times New Roman"/>
              </a:rPr>
              <a:t>surrender…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800280" y="944640"/>
            <a:ext cx="754380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Papyrus"/>
                <a:ea typeface="Times New Roman"/>
              </a:rPr>
              <a:t>…</a:t>
            </a:r>
            <a:r>
              <a:rPr b="1" lang="en-GB" sz="8000" spc="-1" strike="noStrike">
                <a:solidFill>
                  <a:srgbClr val="ffffff"/>
                </a:solidFill>
                <a:latin typeface="Papyrus"/>
                <a:ea typeface="Times New Roman"/>
              </a:rPr>
              <a:t>all that I am,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Papyrus"/>
                <a:ea typeface="Times New Roman"/>
              </a:rPr>
              <a:t>all that I have,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Papyrus"/>
                <a:ea typeface="Times New Roman"/>
              </a:rPr>
              <a:t>all that I long fo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297180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3"/>
          <p:cNvSpPr/>
          <p:nvPr/>
        </p:nvSpPr>
        <p:spPr>
          <a:xfrm>
            <a:off x="0" y="4876920"/>
            <a:ext cx="630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Papyrus"/>
                <a:ea typeface="Times New Roman"/>
              </a:rPr>
              <a:t>…</a:t>
            </a:r>
            <a:r>
              <a:rPr b="1" lang="en-GB" sz="4800" spc="-1" strike="noStrike">
                <a:solidFill>
                  <a:srgbClr val="ffffff"/>
                </a:solidFill>
                <a:latin typeface="Papyrus"/>
                <a:ea typeface="Times New Roman"/>
              </a:rPr>
              <a:t>because you surrendered all for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  <p:transition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384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I’m giving you my hear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And all that is withi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I lay it all dow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For the sake of you my King.</a:t>
            </a:r>
            <a:br>
              <a:rPr sz="4400"/>
            </a:b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6537240" y="3962520"/>
            <a:ext cx="2606760" cy="2895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C:\Users\jamesl\Pictures\Microsoft Clip Organizer\00398869.jpg"/>
          <p:cNvPicPr/>
          <p:nvPr/>
        </p:nvPicPr>
        <p:blipFill>
          <a:blip r:embed="rId1"/>
          <a:srcRect l="14629" t="4724" r="32503" b="5504"/>
          <a:stretch/>
        </p:blipFill>
        <p:spPr>
          <a:xfrm>
            <a:off x="6730920" y="3933720"/>
            <a:ext cx="2413080" cy="29242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5586"/>
                </a:solidFill>
                <a:latin typeface="Franklin Gothic Medium"/>
              </a:rPr>
              <a:t>AIMS</a:t>
            </a:r>
            <a:endParaRPr b="0" lang="en-US" sz="5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1411200"/>
            <a:ext cx="540072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5880" indent="-33588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o clarify what call i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o identify why it matter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o suggest a way of discerning God’s call for our live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o identify how discerning God’s call ought to make a difference to the way we liv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I’m giving you my dream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I’m laying down my righ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I’m giving up my prid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For the promise of a new life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6537240" y="3956040"/>
            <a:ext cx="2606760" cy="2895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27000"/>
            <a:ext cx="7772400" cy="20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And I surrende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All to you, all to you.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6537240" y="3956040"/>
            <a:ext cx="2606760" cy="2895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32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I’m singing you this song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I’m waiting at the cros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All the world holds dea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I count it all as loss.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6537240" y="3956040"/>
            <a:ext cx="2606760" cy="2895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346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For the sake of knowing you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For the glory of your nam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To know the lasting jo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Even sharing in your pain.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6537240" y="3860640"/>
            <a:ext cx="2606760" cy="2895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And I surrende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All to you, all to you.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6537240" y="3956040"/>
            <a:ext cx="2606760" cy="2895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034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  <p:transition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3"/>
          <p:cNvSpPr/>
          <p:nvPr/>
        </p:nvSpPr>
        <p:spPr>
          <a:xfrm>
            <a:off x="3927600" y="1052640"/>
            <a:ext cx="457992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spcAft>
                <a:spcPts val="2401"/>
              </a:spcAft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he inability to priori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Aft>
                <a:spcPts val="2401"/>
              </a:spcAft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he inability or unwillingness to organise these prio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Aft>
                <a:spcPts val="2401"/>
              </a:spcAft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Lack of discipline to maintain and tackle these prio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5" descr="j0401828"/>
          <p:cNvPicPr/>
          <p:nvPr/>
        </p:nvPicPr>
        <p:blipFill>
          <a:blip r:embed="rId1"/>
          <a:srcRect l="5482" t="0" r="13989" b="0"/>
          <a:stretch/>
        </p:blipFill>
        <p:spPr>
          <a:xfrm>
            <a:off x="338040" y="311040"/>
            <a:ext cx="3348000" cy="623592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4"/>
          <p:cNvSpPr/>
          <p:nvPr/>
        </p:nvSpPr>
        <p:spPr>
          <a:xfrm>
            <a:off x="338040" y="311040"/>
            <a:ext cx="8410680" cy="6235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3"/>
          <p:cNvSpPr/>
          <p:nvPr/>
        </p:nvSpPr>
        <p:spPr>
          <a:xfrm>
            <a:off x="1476360" y="1413000"/>
            <a:ext cx="6645240" cy="34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Franklin Gothic Book"/>
              </a:rPr>
              <a:t>‘</a:t>
            </a:r>
            <a:r>
              <a:rPr b="0" lang="en-GB" sz="4400" spc="-1" strike="noStrike">
                <a:solidFill>
                  <a:srgbClr val="000000"/>
                </a:solidFill>
                <a:latin typeface="Franklin Gothic Book"/>
              </a:rPr>
              <a:t>The greatest incentive to saying “no” is having an even greater “yes” burning inside you.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586"/>
                </a:solidFill>
                <a:latin typeface="Franklin Gothic Book"/>
              </a:rPr>
              <a:t>Stephen Cov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Oval 3"/>
          <p:cNvSpPr/>
          <p:nvPr/>
        </p:nvSpPr>
        <p:spPr>
          <a:xfrm>
            <a:off x="-541440" y="5686560"/>
            <a:ext cx="1573200" cy="155880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4"/>
          <p:cNvSpPr/>
          <p:nvPr/>
        </p:nvSpPr>
        <p:spPr>
          <a:xfrm>
            <a:off x="8558280" y="463680"/>
            <a:ext cx="1171440" cy="118584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7280" y="1413000"/>
            <a:ext cx="4105080" cy="40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CONSIDERING CALLING – HOW DO I DISCERN GOD’S CALL?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257" name="Picture 3" descr="Handshake"/>
          <p:cNvPicPr/>
          <p:nvPr/>
        </p:nvPicPr>
        <p:blipFill>
          <a:blip r:embed="rId1"/>
          <a:stretch/>
        </p:blipFill>
        <p:spPr>
          <a:xfrm>
            <a:off x="317520" y="311040"/>
            <a:ext cx="3894120" cy="623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8" name="Rectangle 4"/>
          <p:cNvSpPr/>
          <p:nvPr/>
        </p:nvSpPr>
        <p:spPr>
          <a:xfrm>
            <a:off x="317520" y="311040"/>
            <a:ext cx="843120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043280" y="981000"/>
            <a:ext cx="685584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5586"/>
                </a:solidFill>
                <a:latin typeface="Franklin Gothic Medium"/>
              </a:rPr>
              <a:t>THE FIVE STEP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Identify</a:t>
            </a:r>
            <a:r>
              <a:rPr b="1" lang="en-GB" sz="2800" spc="-1" strike="noStrike">
                <a:solidFill>
                  <a:srgbClr val="002c85"/>
                </a:solidFill>
                <a:latin typeface="Franklin Gothic Boo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a starting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Discern</a:t>
            </a:r>
            <a:r>
              <a:rPr b="1" lang="en-GB" sz="2800" spc="-1" strike="noStrike">
                <a:solidFill>
                  <a:srgbClr val="002c85"/>
                </a:solidFill>
                <a:latin typeface="Franklin Gothic Boo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where God is l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Develop</a:t>
            </a:r>
            <a:r>
              <a:rPr b="1" lang="en-GB" sz="2800" spc="-1" strike="noStrike">
                <a:solidFill>
                  <a:srgbClr val="002c85"/>
                </a:solidFill>
                <a:latin typeface="Franklin Gothic Boo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a personal life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Implement</a:t>
            </a:r>
            <a:r>
              <a:rPr b="1" lang="en-GB" sz="2800" spc="-1" strike="noStrike">
                <a:solidFill>
                  <a:srgbClr val="002c85"/>
                </a:solidFill>
                <a:latin typeface="Franklin Gothic Boo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a personal life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Revise</a:t>
            </a:r>
            <a:r>
              <a:rPr b="1" lang="en-GB" sz="2800" spc="-1" strike="noStrike">
                <a:solidFill>
                  <a:srgbClr val="002c85"/>
                </a:solidFill>
                <a:latin typeface="Franklin Gothic Boo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your life statement regul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5"/>
          <p:cNvSpPr/>
          <p:nvPr/>
        </p:nvSpPr>
        <p:spPr>
          <a:xfrm>
            <a:off x="-541440" y="5686560"/>
            <a:ext cx="1573200" cy="155880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6"/>
          <p:cNvSpPr/>
          <p:nvPr/>
        </p:nvSpPr>
        <p:spPr>
          <a:xfrm>
            <a:off x="8558280" y="463680"/>
            <a:ext cx="1171440" cy="118584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7640" y="1628640"/>
            <a:ext cx="4176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5586"/>
                </a:solidFill>
                <a:latin typeface="Franklin Gothic Medium"/>
              </a:rPr>
              <a:t>CONSIDERING CALLING – WHAT IS IT?</a:t>
            </a: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148" name="Picture 3" descr="Handshake"/>
          <p:cNvPicPr/>
          <p:nvPr/>
        </p:nvPicPr>
        <p:blipFill>
          <a:blip r:embed="rId1"/>
          <a:stretch/>
        </p:blipFill>
        <p:spPr>
          <a:xfrm>
            <a:off x="317520" y="311040"/>
            <a:ext cx="3894120" cy="623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Rectangle 1"/>
          <p:cNvSpPr/>
          <p:nvPr/>
        </p:nvSpPr>
        <p:spPr>
          <a:xfrm>
            <a:off x="317520" y="311040"/>
            <a:ext cx="843120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1116000" y="395280"/>
            <a:ext cx="69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586"/>
                </a:solidFill>
                <a:latin typeface="Franklin Gothic Medium"/>
              </a:rPr>
              <a:t>1. IDENTIFY A STARTING POI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2961000" y="3276720"/>
            <a:ext cx="2690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400" spc="-1" strike="noStrike">
                <a:solidFill>
                  <a:srgbClr val="eb6d21"/>
                </a:solidFill>
                <a:latin typeface="Franklin Gothic Book"/>
              </a:rPr>
              <a:t>SHAPE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08200" y="5181480"/>
            <a:ext cx="23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Spiritual gif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4272480" y="1981080"/>
            <a:ext cx="14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6299280" y="251460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Pers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678960" y="243828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Heart’s des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5704200" y="5181480"/>
            <a:ext cx="20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9"/>
          <p:cNvSpPr/>
          <p:nvPr/>
        </p:nvSpPr>
        <p:spPr>
          <a:xfrm flipV="1">
            <a:off x="1670040" y="4190760"/>
            <a:ext cx="1371600" cy="990360"/>
          </a:xfrm>
          <a:prstGeom prst="line">
            <a:avLst/>
          </a:prstGeom>
          <a:ln w="28440">
            <a:solidFill>
              <a:srgbClr val="004d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0"/>
          <p:cNvSpPr/>
          <p:nvPr/>
        </p:nvSpPr>
        <p:spPr>
          <a:xfrm flipH="1" flipV="1">
            <a:off x="5556240" y="4114800"/>
            <a:ext cx="914400" cy="990720"/>
          </a:xfrm>
          <a:prstGeom prst="line">
            <a:avLst/>
          </a:prstGeom>
          <a:ln w="28440">
            <a:solidFill>
              <a:srgbClr val="004d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1"/>
          <p:cNvSpPr/>
          <p:nvPr/>
        </p:nvSpPr>
        <p:spPr>
          <a:xfrm flipH="1">
            <a:off x="5022720" y="2819520"/>
            <a:ext cx="1447920" cy="609480"/>
          </a:xfrm>
          <a:prstGeom prst="line">
            <a:avLst/>
          </a:prstGeom>
          <a:ln w="28440">
            <a:solidFill>
              <a:srgbClr val="004d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2"/>
          <p:cNvSpPr/>
          <p:nvPr/>
        </p:nvSpPr>
        <p:spPr>
          <a:xfrm flipH="1">
            <a:off x="4489560" y="2438280"/>
            <a:ext cx="380880" cy="990720"/>
          </a:xfrm>
          <a:prstGeom prst="line">
            <a:avLst/>
          </a:prstGeom>
          <a:ln w="28440">
            <a:solidFill>
              <a:srgbClr val="004d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3"/>
          <p:cNvSpPr/>
          <p:nvPr/>
        </p:nvSpPr>
        <p:spPr>
          <a:xfrm>
            <a:off x="2050920" y="2895480"/>
            <a:ext cx="1676520" cy="457200"/>
          </a:xfrm>
          <a:prstGeom prst="line">
            <a:avLst/>
          </a:prstGeom>
          <a:ln w="28440">
            <a:solidFill>
              <a:srgbClr val="004d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1116360" y="1052640"/>
            <a:ext cx="685584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5586"/>
                </a:solidFill>
                <a:latin typeface="Franklin Gothic Medium"/>
              </a:rPr>
              <a:t>THE FIVE STEP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Identify</a:t>
            </a:r>
            <a:r>
              <a:rPr b="1" lang="en-GB" sz="2800" spc="-1" strike="noStrike">
                <a:solidFill>
                  <a:srgbClr val="002c85"/>
                </a:solidFill>
                <a:latin typeface="Franklin Gothic Boo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a starting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Discern</a:t>
            </a:r>
            <a:r>
              <a:rPr b="1" lang="en-GB" sz="2800" spc="-1" strike="noStrike">
                <a:solidFill>
                  <a:srgbClr val="002c85"/>
                </a:solidFill>
                <a:latin typeface="Franklin Gothic Boo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where God is l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Develop</a:t>
            </a:r>
            <a:r>
              <a:rPr b="1" lang="en-GB" sz="2800" spc="-1" strike="noStrike">
                <a:solidFill>
                  <a:srgbClr val="002c85"/>
                </a:solidFill>
                <a:latin typeface="Franklin Gothic Boo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a personal life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Implement</a:t>
            </a:r>
            <a:r>
              <a:rPr b="1" lang="en-GB" sz="2800" spc="-1" strike="noStrike">
                <a:solidFill>
                  <a:srgbClr val="002c85"/>
                </a:solidFill>
                <a:latin typeface="Franklin Gothic Boo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a personal life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Revise</a:t>
            </a:r>
            <a:r>
              <a:rPr b="1" lang="en-GB" sz="2800" spc="-1" strike="noStrike">
                <a:solidFill>
                  <a:srgbClr val="002c85"/>
                </a:solidFill>
                <a:latin typeface="Franklin Gothic Boo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your life statement regul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3"/>
          <p:cNvSpPr/>
          <p:nvPr/>
        </p:nvSpPr>
        <p:spPr>
          <a:xfrm>
            <a:off x="-541440" y="5686560"/>
            <a:ext cx="1573200" cy="155880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8558280" y="463680"/>
            <a:ext cx="1171440" cy="118584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1224000" y="728640"/>
            <a:ext cx="75960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5586"/>
                </a:solidFill>
                <a:latin typeface="Franklin Gothic Medium"/>
              </a:rPr>
              <a:t>THE EXAMPLE OF JES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36c23"/>
                </a:solidFill>
                <a:latin typeface="Franklin Gothic Medium"/>
              </a:rPr>
              <a:t>Mark 1:4-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Knew</a:t>
            </a: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 his call (1:4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Call was </a:t>
            </a: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tested </a:t>
            </a: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(1:12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Acted</a:t>
            </a: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 on his call (1:14-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Shares</a:t>
            </a: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 his call with others (1:14-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Exercises his call with </a:t>
            </a: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compassion </a:t>
            </a: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(1:21-3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Reinforces his call through </a:t>
            </a: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prayer </a:t>
            </a: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(1: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Reaffirms his call through </a:t>
            </a: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hard decisions </a:t>
            </a: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(1:36-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3"/>
          <p:cNvSpPr/>
          <p:nvPr/>
        </p:nvSpPr>
        <p:spPr>
          <a:xfrm>
            <a:off x="-541440" y="5686560"/>
            <a:ext cx="1573200" cy="155880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4"/>
          <p:cNvSpPr/>
          <p:nvPr/>
        </p:nvSpPr>
        <p:spPr>
          <a:xfrm>
            <a:off x="8558280" y="463680"/>
            <a:ext cx="1171440" cy="118584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2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brxbxp56719"/>
          <p:cNvPicPr/>
          <p:nvPr/>
        </p:nvPicPr>
        <p:blipFill>
          <a:blip r:embed="rId1"/>
          <a:stretch/>
        </p:blipFill>
        <p:spPr>
          <a:xfrm>
            <a:off x="0" y="0"/>
            <a:ext cx="10287000" cy="68706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3"/>
          <p:cNvSpPr/>
          <p:nvPr/>
        </p:nvSpPr>
        <p:spPr>
          <a:xfrm>
            <a:off x="395280" y="1628640"/>
            <a:ext cx="51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O God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you are my Go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brxbxp56707"/>
          <p:cNvPicPr/>
          <p:nvPr/>
        </p:nvPicPr>
        <p:blipFill>
          <a:blip r:embed="rId1"/>
          <a:stretch/>
        </p:blipFill>
        <p:spPr>
          <a:xfrm>
            <a:off x="4587840" y="0"/>
            <a:ext cx="455616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3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212760" y="836640"/>
            <a:ext cx="4343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Medium"/>
              </a:rPr>
              <a:t>I long for you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Medium"/>
              </a:rPr>
              <a:t>my soul thirsts for you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Medium"/>
              </a:rPr>
              <a:t>my flesh yearns for you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Medium"/>
              </a:rPr>
              <a:t>in a dry and parched land where the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Medium"/>
              </a:rPr>
              <a:t>is no wa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4859280" y="1447920"/>
            <a:ext cx="428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Medium"/>
              </a:rPr>
              <a:t>Your loyal love is better  than life itself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Medium"/>
              </a:rPr>
              <a:t>my lips will praise yo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5594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4"/>
          <p:cNvSpPr/>
          <p:nvPr/>
        </p:nvSpPr>
        <p:spPr>
          <a:xfrm>
            <a:off x="6480" y="792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212760" y="1442880"/>
            <a:ext cx="435924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For you are my deliverer, under your wings I rejoi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My soul pursues you; your right hand upholds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anklin Gothic Medium"/>
              </a:rPr>
              <a:t>Psalm 63 (Net Bi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5" descr="brxbxp66804"/>
          <p:cNvPicPr/>
          <p:nvPr/>
        </p:nvPicPr>
        <p:blipFill>
          <a:blip r:embed="rId1"/>
          <a:stretch/>
        </p:blipFill>
        <p:spPr>
          <a:xfrm>
            <a:off x="4811760" y="0"/>
            <a:ext cx="4332240" cy="6629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9080" y="169992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NEXT SESSION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49080" y="2771640"/>
            <a:ext cx="8243640" cy="32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S4: Developing characte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Date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Venue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Before then: Meet your mentor and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complete project 3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93" name="Group 18"/>
          <p:cNvGrpSpPr/>
          <p:nvPr/>
        </p:nvGrpSpPr>
        <p:grpSpPr>
          <a:xfrm>
            <a:off x="6327720" y="0"/>
            <a:ext cx="2781360" cy="6858000"/>
            <a:chOff x="6327720" y="0"/>
            <a:chExt cx="2781360" cy="6858000"/>
          </a:xfrm>
        </p:grpSpPr>
        <p:pic>
          <p:nvPicPr>
            <p:cNvPr id="294" name="Picture 15" descr="Hoop_green.jpg"/>
            <p:cNvPicPr/>
            <p:nvPr/>
          </p:nvPicPr>
          <p:blipFill>
            <a:blip r:embed="rId1"/>
            <a:stretch/>
          </p:blipFill>
          <p:spPr>
            <a:xfrm>
              <a:off x="6327720" y="3213000"/>
              <a:ext cx="2018880" cy="16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16" descr="Hoop_orange.jpg"/>
            <p:cNvPicPr/>
            <p:nvPr/>
          </p:nvPicPr>
          <p:blipFill>
            <a:blip r:embed="rId2"/>
            <a:stretch/>
          </p:blipFill>
          <p:spPr>
            <a:xfrm>
              <a:off x="6786000" y="548640"/>
              <a:ext cx="232308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4" descr="Branch.jpg"/>
            <p:cNvPicPr/>
            <p:nvPr/>
          </p:nvPicPr>
          <p:blipFill>
            <a:blip r:embed="rId3"/>
            <a:stretch/>
          </p:blipFill>
          <p:spPr>
            <a:xfrm>
              <a:off x="6713640" y="0"/>
              <a:ext cx="194184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7" name="Picture 13" descr=""/>
          <p:cNvPicPr/>
          <p:nvPr/>
        </p:nvPicPr>
        <p:blipFill>
          <a:blip r:embed="rId4"/>
          <a:stretch/>
        </p:blipFill>
        <p:spPr>
          <a:xfrm>
            <a:off x="324000" y="-177840"/>
            <a:ext cx="1452240" cy="145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321440" cy="4322520"/>
          </a:xfrm>
          <a:prstGeom prst="rect">
            <a:avLst/>
          </a:prstGeom>
          <a:ln w="0">
            <a:noFill/>
          </a:ln>
        </p:spPr>
      </p:pic>
      <p:sp>
        <p:nvSpPr>
          <p:cNvPr id="299" name="TextBox 3"/>
          <p:cNvSpPr/>
          <p:nvPr/>
        </p:nvSpPr>
        <p:spPr>
          <a:xfrm>
            <a:off x="3087720" y="5373720"/>
            <a:ext cx="450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ter"/>
                <a:ea typeface="MS PGothic"/>
              </a:rPr>
              <a:t>@CPASLead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2" descr="Image result for Twitter"/>
          <p:cNvPicPr/>
          <p:nvPr/>
        </p:nvPicPr>
        <p:blipFill>
          <a:blip r:embed="rId2"/>
          <a:stretch/>
        </p:blipFill>
        <p:spPr>
          <a:xfrm>
            <a:off x="2376360" y="5338800"/>
            <a:ext cx="677880" cy="67788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4"/>
          <p:cNvSpPr/>
          <p:nvPr/>
        </p:nvSpPr>
        <p:spPr>
          <a:xfrm>
            <a:off x="361800" y="311040"/>
            <a:ext cx="8425080" cy="6264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4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380880" y="0"/>
            <a:ext cx="3733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586"/>
                </a:solidFill>
                <a:latin typeface="Franklin Gothic Medium"/>
              </a:rPr>
              <a:t>SYMPTOMS OF LIFE IN THE RED ZON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1447920" y="1523880"/>
            <a:ext cx="3504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Physical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7"/>
          <p:cNvSpPr/>
          <p:nvPr/>
        </p:nvSpPr>
        <p:spPr>
          <a:xfrm>
            <a:off x="1447920" y="5410080"/>
            <a:ext cx="365760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Spirit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1447920" y="441972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Intellect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9"/>
          <p:cNvSpPr/>
          <p:nvPr/>
        </p:nvSpPr>
        <p:spPr>
          <a:xfrm>
            <a:off x="1447920" y="342900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Relation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0"/>
          <p:cNvSpPr/>
          <p:nvPr/>
        </p:nvSpPr>
        <p:spPr>
          <a:xfrm>
            <a:off x="1447920" y="2438280"/>
            <a:ext cx="3657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Emotion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21" descr="bs00871_"/>
          <p:cNvPicPr/>
          <p:nvPr/>
        </p:nvPicPr>
        <p:blipFill>
          <a:blip r:embed="rId1"/>
          <a:stretch/>
        </p:blipFill>
        <p:spPr>
          <a:xfrm>
            <a:off x="457200" y="1523880"/>
            <a:ext cx="824040" cy="8384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2" descr="bs00871_"/>
          <p:cNvPicPr/>
          <p:nvPr/>
        </p:nvPicPr>
        <p:blipFill>
          <a:blip r:embed="rId2"/>
          <a:stretch/>
        </p:blipFill>
        <p:spPr>
          <a:xfrm>
            <a:off x="457200" y="2514600"/>
            <a:ext cx="824040" cy="838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3" descr="bs00871_"/>
          <p:cNvPicPr/>
          <p:nvPr/>
        </p:nvPicPr>
        <p:blipFill>
          <a:blip r:embed="rId3"/>
          <a:stretch/>
        </p:blipFill>
        <p:spPr>
          <a:xfrm>
            <a:off x="457200" y="3505320"/>
            <a:ext cx="824040" cy="8380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4" descr="bs00871_"/>
          <p:cNvPicPr/>
          <p:nvPr/>
        </p:nvPicPr>
        <p:blipFill>
          <a:blip r:embed="rId4"/>
          <a:stretch/>
        </p:blipFill>
        <p:spPr>
          <a:xfrm>
            <a:off x="457200" y="4495680"/>
            <a:ext cx="824040" cy="8384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5" descr="bs00871_"/>
          <p:cNvPicPr/>
          <p:nvPr/>
        </p:nvPicPr>
        <p:blipFill>
          <a:blip r:embed="rId5"/>
          <a:stretch/>
        </p:blipFill>
        <p:spPr>
          <a:xfrm>
            <a:off x="471600" y="5486400"/>
            <a:ext cx="823680" cy="83808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26"/>
          <p:cNvSpPr/>
          <p:nvPr/>
        </p:nvSpPr>
        <p:spPr>
          <a:xfrm>
            <a:off x="5486400" y="1523880"/>
            <a:ext cx="3505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b6d21"/>
                </a:solidFill>
                <a:latin typeface="Franklin Gothic Book"/>
              </a:rPr>
              <a:t>deple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27"/>
          <p:cNvSpPr/>
          <p:nvPr/>
        </p:nvSpPr>
        <p:spPr>
          <a:xfrm>
            <a:off x="5486400" y="3429000"/>
            <a:ext cx="3505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b6d21"/>
                </a:solidFill>
                <a:latin typeface="Franklin Gothic Book"/>
              </a:rPr>
              <a:t>dis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28"/>
          <p:cNvSpPr/>
          <p:nvPr/>
        </p:nvSpPr>
        <p:spPr>
          <a:xfrm>
            <a:off x="5486400" y="2438280"/>
            <a:ext cx="3505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b6d21"/>
                </a:solidFill>
                <a:latin typeface="Franklin Gothic Book"/>
              </a:rPr>
              <a:t>dr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29"/>
          <p:cNvSpPr/>
          <p:nvPr/>
        </p:nvSpPr>
        <p:spPr>
          <a:xfrm>
            <a:off x="5486400" y="4419720"/>
            <a:ext cx="3505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b6d21"/>
                </a:solidFill>
                <a:latin typeface="Franklin Gothic Book"/>
              </a:rPr>
              <a:t>s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30"/>
          <p:cNvSpPr/>
          <p:nvPr/>
        </p:nvSpPr>
        <p:spPr>
          <a:xfrm>
            <a:off x="5486400" y="5397480"/>
            <a:ext cx="3505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b6d21"/>
                </a:solidFill>
                <a:latin typeface="Franklin Gothic Book"/>
              </a:rPr>
              <a:t>disillusio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31"/>
          <p:cNvSpPr/>
          <p:nvPr/>
        </p:nvSpPr>
        <p:spPr>
          <a:xfrm>
            <a:off x="5105520" y="561960"/>
            <a:ext cx="2133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586"/>
                </a:solidFill>
                <a:latin typeface="Franklin Gothic Medium"/>
              </a:rPr>
              <a:t>…</a:t>
            </a:r>
            <a:r>
              <a:rPr b="0" lang="en-GB" sz="2400" spc="-1" strike="noStrike">
                <a:solidFill>
                  <a:srgbClr val="005586"/>
                </a:solidFill>
                <a:latin typeface="Franklin Gothic Medium"/>
              </a:rPr>
              <a:t>IF IGNO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32"/>
          <p:cNvSpPr/>
          <p:nvPr/>
        </p:nvSpPr>
        <p:spPr>
          <a:xfrm>
            <a:off x="4299120" y="2025720"/>
            <a:ext cx="958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33"/>
          <p:cNvSpPr/>
          <p:nvPr/>
        </p:nvSpPr>
        <p:spPr>
          <a:xfrm>
            <a:off x="4295880" y="2940120"/>
            <a:ext cx="958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34"/>
          <p:cNvSpPr/>
          <p:nvPr/>
        </p:nvSpPr>
        <p:spPr>
          <a:xfrm>
            <a:off x="4299120" y="3933720"/>
            <a:ext cx="958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35"/>
          <p:cNvSpPr/>
          <p:nvPr/>
        </p:nvSpPr>
        <p:spPr>
          <a:xfrm>
            <a:off x="4299120" y="4908600"/>
            <a:ext cx="958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36"/>
          <p:cNvSpPr/>
          <p:nvPr/>
        </p:nvSpPr>
        <p:spPr>
          <a:xfrm>
            <a:off x="4267080" y="5899320"/>
            <a:ext cx="9590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7960" y="1484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5586"/>
                </a:solidFill>
                <a:latin typeface="Franklin Gothic Medium"/>
              </a:rPr>
              <a:t>AGREE/DISAGREE</a:t>
            </a: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676520" y="2514600"/>
            <a:ext cx="6019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Use your </a:t>
            </a:r>
            <a:r>
              <a:rPr b="0" lang="en-GB" sz="2800" spc="-1" strike="noStrike">
                <a:solidFill>
                  <a:srgbClr val="0066ff"/>
                </a:solidFill>
                <a:latin typeface="Franklin Gothic Book"/>
              </a:rPr>
              <a:t>blue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 stickers to show where you strongly a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002c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Use your </a:t>
            </a:r>
            <a:r>
              <a:rPr b="0" lang="en-GB" sz="2800" spc="-1" strike="noStrike">
                <a:solidFill>
                  <a:srgbClr val="ff3300"/>
                </a:solidFill>
                <a:latin typeface="Franklin Gothic Book"/>
              </a:rPr>
              <a:t>red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 stickers to show where you strongly disa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4"/>
          <p:cNvSpPr/>
          <p:nvPr/>
        </p:nvSpPr>
        <p:spPr>
          <a:xfrm>
            <a:off x="-541440" y="5516640"/>
            <a:ext cx="1573200" cy="155880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5"/>
          <p:cNvSpPr/>
          <p:nvPr/>
        </p:nvSpPr>
        <p:spPr>
          <a:xfrm>
            <a:off x="8558280" y="463680"/>
            <a:ext cx="1171440" cy="118584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Question marks.jpg"/>
          <p:cNvPicPr/>
          <p:nvPr/>
        </p:nvPicPr>
        <p:blipFill>
          <a:blip r:embed="rId1"/>
          <a:stretch/>
        </p:blipFill>
        <p:spPr>
          <a:xfrm>
            <a:off x="0" y="746280"/>
            <a:ext cx="9144000" cy="6111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360" y="4939920"/>
            <a:ext cx="91440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Franklin Gothic Medium"/>
              </a:rPr>
              <a:t>HOW’S THE 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Franklin Gothic Medium"/>
              </a:rPr>
              <a:t>JOURNEY?</a:t>
            </a: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6000" y="34560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5586"/>
                </a:solidFill>
                <a:latin typeface="Franklin Gothic Medium"/>
              </a:rPr>
              <a:t>PRIMARY CALLING</a:t>
            </a:r>
            <a:endParaRPr b="0" lang="en-US" sz="40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6324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99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o discipleship (Mark 2:17)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116000" y="237024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5586"/>
                </a:solidFill>
                <a:latin typeface="Franklin Gothic Medium"/>
              </a:rPr>
              <a:t>PARTICULAR CA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1138320" y="3298680"/>
            <a:ext cx="63244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Discern God’s particular call for our life (Romans 1:1, Acts 8, Colossians 3:17, 2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9" descr="C:\Users\jamesl\AppData\Local\Microsoft\Windows\Temporary Internet Files\Content.IE5\5DPS72JC\MP900384794[1].jpg"/>
          <p:cNvPicPr/>
          <p:nvPr/>
        </p:nvPicPr>
        <p:blipFill>
          <a:blip r:embed="rId1"/>
          <a:stretch/>
        </p:blipFill>
        <p:spPr>
          <a:xfrm>
            <a:off x="6300720" y="4508640"/>
            <a:ext cx="2479680" cy="1982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0:28:29Z</dcterms:created>
  <dc:creator>setup1-01</dc:creator>
  <dc:description/>
  <dc:language>en-US</dc:language>
  <cp:lastModifiedBy>James Lawrence</cp:lastModifiedBy>
  <dcterms:modified xsi:type="dcterms:W3CDTF">2018-09-09T17:05:55Z</dcterms:modified>
  <cp:revision>129</cp:revision>
  <dc:subject/>
  <dc:title>PowerPoint Presentation</dc:title>
</cp:coreProperties>
</file>