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D9D-5D35-4968-9EA5-596B62535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E34-03B5-4939-A8B4-4A5C12C12F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FB2-9E01-48C9-ADE9-0E164AEB4F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4A3-4EE4-4B62-890A-2A5A5A812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590840" y="762120"/>
            <a:ext cx="3531960" cy="2649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0840" y="3733920"/>
            <a:ext cx="4116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CEC-8597-4A3A-8FA8-3EC8B3F5B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231-F637-4DCE-94A7-6E040AFB0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B5CC-48D7-4942-9FE4-9D2E78D24F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2400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1CB4-BF46-4E42-8B48-4A48389818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851120" y="838080"/>
            <a:ext cx="3098880" cy="23241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143000" y="3350880"/>
            <a:ext cx="45720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3550-7AA5-4E02-8EB9-A9F09966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852560" y="838080"/>
            <a:ext cx="3097440" cy="2324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43000" y="3350880"/>
            <a:ext cx="45720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69B5-6BBF-4319-870A-80195436DF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337B-9B14-43C5-89DE-D3DF2692A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20760" y="762120"/>
            <a:ext cx="2554560" cy="1915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8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FC85-F20A-4C17-A97A-B2614D0ED5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847A-58C7-4B35-B012-12A432FE7A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165-58E0-4F4A-B829-4CB289C35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6F8-BE7F-4D5C-8848-FF142E324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90D-2AEF-4278-9563-5A1D4962E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8EF2-B95D-413D-8AEE-0F85D6A501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D928-AF04-4357-977B-6B48640D3F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448-1979-4C3D-864E-7DEE8B657F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1DF-DF3D-443C-88E6-F29AEFFDF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CDA-ADD7-4061-A4F2-8E53D31CC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20760" y="762120"/>
            <a:ext cx="2554560" cy="1915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AED0D377-9D2B-4171-AA36-A374FDA6ADCD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BA0F7772-B073-4888-9D82-35FA9CC51D15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419AA352-1A95-4210-B9E4-4613D17A932E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5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30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2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1257480"/>
            <a:ext cx="635148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MARKS OF CHRIST-LIKE CHARACTER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2649600" y="1387440"/>
            <a:ext cx="4190760" cy="41925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3073320" y="1830240"/>
            <a:ext cx="3353040" cy="3354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3516480" y="2290680"/>
            <a:ext cx="2438280" cy="244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87280" y="3571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195640" y="126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678200" y="36194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360" y="1627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0920" y="393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6960" y="15238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Make sure that your life sings the same song as your lips.’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27320" y="4220640"/>
            <a:ext cx="2574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586"/>
                </a:solidFill>
                <a:latin typeface="Franklin Gothic Book"/>
              </a:rPr>
              <a:t>Augusti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6200" y="620280"/>
            <a:ext cx="683928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MARKS OF CHRIST-LIKE CHARACTER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8920" y="22813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274760" y="342900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ervant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a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6400" y="227664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g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um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desktop1"/>
          <p:cNvPicPr/>
          <p:nvPr/>
        </p:nvPicPr>
        <p:blipFill>
          <a:blip r:embed="rId1"/>
          <a:stretch/>
        </p:blipFill>
        <p:spPr>
          <a:xfrm>
            <a:off x="347760" y="304920"/>
            <a:ext cx="8448480" cy="43639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800280" y="4648320"/>
            <a:ext cx="7543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DEVELOPING CHRIST-LIKE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347760" y="304920"/>
            <a:ext cx="8448480" cy="621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99640" y="4621320"/>
            <a:ext cx="2667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1. Refl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Freeform 4"/>
          <p:cNvSpPr/>
          <p:nvPr/>
        </p:nvSpPr>
        <p:spPr>
          <a:xfrm>
            <a:off x="2919240" y="3889440"/>
            <a:ext cx="347760" cy="339840"/>
          </a:xfrm>
          <a:custGeom>
            <a:avLst/>
            <a:gdLst>
              <a:gd name="textAreaLeft" fmla="*/ 0 w 347760"/>
              <a:gd name="textAreaRight" fmla="*/ 348120 w 347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439" h="428">
                <a:moveTo>
                  <a:pt x="328" y="4"/>
                </a:moveTo>
                <a:lnTo>
                  <a:pt x="372" y="181"/>
                </a:lnTo>
                <a:lnTo>
                  <a:pt x="439" y="349"/>
                </a:lnTo>
                <a:lnTo>
                  <a:pt x="119" y="428"/>
                </a:lnTo>
                <a:lnTo>
                  <a:pt x="46" y="218"/>
                </a:lnTo>
                <a:lnTo>
                  <a:pt x="0" y="0"/>
                </a:lnTo>
                <a:lnTo>
                  <a:pt x="328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5"/>
          <p:cNvSpPr/>
          <p:nvPr/>
        </p:nvSpPr>
        <p:spPr>
          <a:xfrm>
            <a:off x="2911320" y="3192480"/>
            <a:ext cx="308160" cy="411120"/>
          </a:xfrm>
          <a:custGeom>
            <a:avLst/>
            <a:gdLst>
              <a:gd name="textAreaLeft" fmla="*/ 0 w 308160"/>
              <a:gd name="textAreaRight" fmla="*/ 308520 w 3081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87" h="519">
                <a:moveTo>
                  <a:pt x="387" y="161"/>
                </a:moveTo>
                <a:lnTo>
                  <a:pt x="340" y="338"/>
                </a:lnTo>
                <a:lnTo>
                  <a:pt x="317" y="519"/>
                </a:lnTo>
                <a:lnTo>
                  <a:pt x="0" y="433"/>
                </a:lnTo>
                <a:lnTo>
                  <a:pt x="36" y="213"/>
                </a:lnTo>
                <a:lnTo>
                  <a:pt x="101" y="0"/>
                </a:lnTo>
                <a:lnTo>
                  <a:pt x="387" y="1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3154320" y="2617920"/>
            <a:ext cx="372960" cy="441360"/>
          </a:xfrm>
          <a:custGeom>
            <a:avLst/>
            <a:gdLst>
              <a:gd name="textAreaLeft" fmla="*/ 0 w 372960"/>
              <a:gd name="textAreaRight" fmla="*/ 373320 w 3729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468" h="558">
                <a:moveTo>
                  <a:pt x="468" y="279"/>
                </a:moveTo>
                <a:lnTo>
                  <a:pt x="343" y="412"/>
                </a:lnTo>
                <a:lnTo>
                  <a:pt x="235" y="558"/>
                </a:lnTo>
                <a:lnTo>
                  <a:pt x="0" y="332"/>
                </a:lnTo>
                <a:lnTo>
                  <a:pt x="138" y="156"/>
                </a:lnTo>
                <a:lnTo>
                  <a:pt x="296" y="0"/>
                </a:lnTo>
                <a:lnTo>
                  <a:pt x="468" y="27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3683160" y="2305080"/>
            <a:ext cx="345960" cy="365040"/>
          </a:xfrm>
          <a:custGeom>
            <a:avLst/>
            <a:gdLst>
              <a:gd name="textAreaLeft" fmla="*/ 0 w 345960"/>
              <a:gd name="textAreaRight" fmla="*/ 346320 w 34596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436" h="460">
                <a:moveTo>
                  <a:pt x="436" y="328"/>
                </a:moveTo>
                <a:lnTo>
                  <a:pt x="263" y="383"/>
                </a:lnTo>
                <a:lnTo>
                  <a:pt x="98" y="460"/>
                </a:lnTo>
                <a:lnTo>
                  <a:pt x="0" y="148"/>
                </a:lnTo>
                <a:lnTo>
                  <a:pt x="205" y="62"/>
                </a:lnTo>
                <a:lnTo>
                  <a:pt x="419" y="0"/>
                </a:lnTo>
                <a:lnTo>
                  <a:pt x="436" y="32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4314960" y="2276640"/>
            <a:ext cx="399960" cy="291960"/>
          </a:xfrm>
          <a:custGeom>
            <a:avLst/>
            <a:gdLst>
              <a:gd name="textAreaLeft" fmla="*/ 0 w 399960"/>
              <a:gd name="textAreaRight" fmla="*/ 400320 w 39996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504" h="368">
                <a:moveTo>
                  <a:pt x="361" y="368"/>
                </a:moveTo>
                <a:lnTo>
                  <a:pt x="182" y="333"/>
                </a:lnTo>
                <a:lnTo>
                  <a:pt x="0" y="320"/>
                </a:lnTo>
                <a:lnTo>
                  <a:pt x="67" y="0"/>
                </a:lnTo>
                <a:lnTo>
                  <a:pt x="288" y="22"/>
                </a:lnTo>
                <a:lnTo>
                  <a:pt x="504" y="71"/>
                </a:lnTo>
                <a:lnTo>
                  <a:pt x="361" y="3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4869000" y="2476440"/>
            <a:ext cx="444240" cy="370080"/>
          </a:xfrm>
          <a:custGeom>
            <a:avLst/>
            <a:gdLst>
              <a:gd name="textAreaLeft" fmla="*/ 0 w 444240"/>
              <a:gd name="textAreaRight" fmla="*/ 444600 w 4442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0" h="467">
                <a:moveTo>
                  <a:pt x="293" y="467"/>
                </a:moveTo>
                <a:lnTo>
                  <a:pt x="153" y="349"/>
                </a:lnTo>
                <a:lnTo>
                  <a:pt x="0" y="251"/>
                </a:lnTo>
                <a:lnTo>
                  <a:pt x="213" y="0"/>
                </a:lnTo>
                <a:lnTo>
                  <a:pt x="395" y="128"/>
                </a:lnTo>
                <a:lnTo>
                  <a:pt x="560" y="275"/>
                </a:lnTo>
                <a:lnTo>
                  <a:pt x="293" y="46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0"/>
          <p:cNvSpPr/>
          <p:nvPr/>
        </p:nvSpPr>
        <p:spPr>
          <a:xfrm>
            <a:off x="5313240" y="2695680"/>
            <a:ext cx="115920" cy="133200"/>
          </a:xfrm>
          <a:custGeom>
            <a:avLst/>
            <a:gdLst>
              <a:gd name="textAreaLeft" fmla="*/ 0 w 115920"/>
              <a:gd name="textAreaRight" fmla="*/ 116280 w 115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6" h="169">
                <a:moveTo>
                  <a:pt x="0" y="0"/>
                </a:moveTo>
                <a:lnTo>
                  <a:pt x="146" y="169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5284800" y="2976480"/>
            <a:ext cx="379440" cy="354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479" h="447">
                <a:moveTo>
                  <a:pt x="153" y="447"/>
                </a:moveTo>
                <a:lnTo>
                  <a:pt x="86" y="277"/>
                </a:lnTo>
                <a:lnTo>
                  <a:pt x="0" y="117"/>
                </a:lnTo>
                <a:lnTo>
                  <a:pt x="305" y="0"/>
                </a:lnTo>
                <a:lnTo>
                  <a:pt x="405" y="200"/>
                </a:lnTo>
                <a:lnTo>
                  <a:pt x="479" y="410"/>
                </a:lnTo>
                <a:lnTo>
                  <a:pt x="153" y="44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5438880" y="3614760"/>
            <a:ext cx="276120" cy="385920"/>
          </a:xfrm>
          <a:custGeom>
            <a:avLst/>
            <a:gdLst>
              <a:gd name="textAreaLeft" fmla="*/ 0 w 276120"/>
              <a:gd name="textAreaRight" fmla="*/ 276480 w 276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349" h="485">
                <a:moveTo>
                  <a:pt x="0" y="361"/>
                </a:moveTo>
                <a:lnTo>
                  <a:pt x="24" y="180"/>
                </a:lnTo>
                <a:lnTo>
                  <a:pt x="24" y="0"/>
                </a:lnTo>
                <a:lnTo>
                  <a:pt x="349" y="44"/>
                </a:lnTo>
                <a:lnTo>
                  <a:pt x="340" y="266"/>
                </a:lnTo>
                <a:lnTo>
                  <a:pt x="303" y="485"/>
                </a:lnTo>
                <a:lnTo>
                  <a:pt x="0" y="3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3"/>
          <p:cNvSpPr/>
          <p:nvPr/>
        </p:nvSpPr>
        <p:spPr>
          <a:xfrm>
            <a:off x="3905280" y="4794120"/>
            <a:ext cx="542880" cy="293760"/>
          </a:xfrm>
          <a:custGeom>
            <a:avLst/>
            <a:gdLst>
              <a:gd name="textAreaLeft" fmla="*/ 0 w 542880"/>
              <a:gd name="textAreaRight" fmla="*/ 543240 w 5428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684" h="370">
                <a:moveTo>
                  <a:pt x="142" y="0"/>
                </a:moveTo>
                <a:lnTo>
                  <a:pt x="321" y="35"/>
                </a:lnTo>
                <a:lnTo>
                  <a:pt x="502" y="47"/>
                </a:lnTo>
                <a:lnTo>
                  <a:pt x="684" y="39"/>
                </a:lnTo>
                <a:lnTo>
                  <a:pt x="660" y="365"/>
                </a:lnTo>
                <a:lnTo>
                  <a:pt x="437" y="370"/>
                </a:lnTo>
                <a:lnTo>
                  <a:pt x="216" y="347"/>
                </a:lnTo>
                <a:lnTo>
                  <a:pt x="0" y="297"/>
                </a:lnTo>
                <a:lnTo>
                  <a:pt x="14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4"/>
          <p:cNvSpPr/>
          <p:nvPr/>
        </p:nvSpPr>
        <p:spPr>
          <a:xfrm>
            <a:off x="4729320" y="4614840"/>
            <a:ext cx="361800" cy="395280"/>
          </a:xfrm>
          <a:custGeom>
            <a:avLst/>
            <a:gdLst>
              <a:gd name="textAreaLeft" fmla="*/ 0 w 361800"/>
              <a:gd name="textAreaRight" fmla="*/ 362160 w 361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456" h="498">
                <a:moveTo>
                  <a:pt x="0" y="174"/>
                </a:moveTo>
                <a:lnTo>
                  <a:pt x="165" y="98"/>
                </a:lnTo>
                <a:lnTo>
                  <a:pt x="319" y="0"/>
                </a:lnTo>
                <a:lnTo>
                  <a:pt x="456" y="300"/>
                </a:lnTo>
                <a:lnTo>
                  <a:pt x="263" y="410"/>
                </a:lnTo>
                <a:lnTo>
                  <a:pt x="58" y="498"/>
                </a:lnTo>
                <a:lnTo>
                  <a:pt x="0" y="17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5"/>
          <p:cNvSpPr/>
          <p:nvPr/>
        </p:nvSpPr>
        <p:spPr>
          <a:xfrm>
            <a:off x="5194440" y="4176720"/>
            <a:ext cx="361800" cy="444600"/>
          </a:xfrm>
          <a:custGeom>
            <a:avLst/>
            <a:gdLst>
              <a:gd name="textAreaLeft" fmla="*/ 0 w 361800"/>
              <a:gd name="textAreaRight" fmla="*/ 362160 w 361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8" h="562">
                <a:moveTo>
                  <a:pt x="0" y="306"/>
                </a:moveTo>
                <a:lnTo>
                  <a:pt x="107" y="160"/>
                </a:lnTo>
                <a:lnTo>
                  <a:pt x="195" y="0"/>
                </a:lnTo>
                <a:lnTo>
                  <a:pt x="458" y="195"/>
                </a:lnTo>
                <a:lnTo>
                  <a:pt x="342" y="386"/>
                </a:lnTo>
                <a:lnTo>
                  <a:pt x="204" y="562"/>
                </a:lnTo>
                <a:lnTo>
                  <a:pt x="0" y="3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6"/>
          <p:cNvSpPr/>
          <p:nvPr/>
        </p:nvSpPr>
        <p:spPr>
          <a:xfrm>
            <a:off x="3191040" y="4410000"/>
            <a:ext cx="438120" cy="376200"/>
          </a:xfrm>
          <a:custGeom>
            <a:avLst/>
            <a:gdLst>
              <a:gd name="textAreaLeft" fmla="*/ 0 w 438120"/>
              <a:gd name="textAreaRight" fmla="*/ 438480 w 438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53" h="474">
                <a:moveTo>
                  <a:pt x="288" y="0"/>
                </a:moveTo>
                <a:lnTo>
                  <a:pt x="414" y="135"/>
                </a:lnTo>
                <a:lnTo>
                  <a:pt x="553" y="251"/>
                </a:lnTo>
                <a:lnTo>
                  <a:pt x="311" y="474"/>
                </a:lnTo>
                <a:lnTo>
                  <a:pt x="146" y="325"/>
                </a:lnTo>
                <a:lnTo>
                  <a:pt x="0" y="154"/>
                </a:lnTo>
                <a:lnTo>
                  <a:pt x="2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7"/>
          <p:cNvSpPr/>
          <p:nvPr/>
        </p:nvSpPr>
        <p:spPr>
          <a:xfrm>
            <a:off x="3809880" y="4516560"/>
            <a:ext cx="444600" cy="838080"/>
          </a:xfrm>
          <a:custGeom>
            <a:avLst/>
            <a:gdLst>
              <a:gd name="textAreaLeft" fmla="*/ 0 w 444600"/>
              <a:gd name="textAreaRight" fmla="*/ 444960 w 444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2" h="1058">
                <a:moveTo>
                  <a:pt x="434" y="0"/>
                </a:moveTo>
                <a:lnTo>
                  <a:pt x="0" y="451"/>
                </a:lnTo>
                <a:lnTo>
                  <a:pt x="149" y="1058"/>
                </a:lnTo>
                <a:lnTo>
                  <a:pt x="363" y="1044"/>
                </a:lnTo>
                <a:lnTo>
                  <a:pt x="300" y="556"/>
                </a:lnTo>
                <a:lnTo>
                  <a:pt x="562" y="86"/>
                </a:lnTo>
                <a:lnTo>
                  <a:pt x="4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8"/>
          <p:cNvSpPr/>
          <p:nvPr/>
        </p:nvSpPr>
        <p:spPr>
          <a:xfrm>
            <a:off x="5261040" y="2617920"/>
            <a:ext cx="114120" cy="133200"/>
          </a:xfrm>
          <a:custGeom>
            <a:avLst/>
            <a:gdLst>
              <a:gd name="textAreaLeft" fmla="*/ 0 w 114120"/>
              <a:gd name="textAreaRight" fmla="*/ 114480 w 1141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6" h="169">
                <a:moveTo>
                  <a:pt x="0" y="0"/>
                </a:moveTo>
                <a:lnTo>
                  <a:pt x="146" y="169"/>
                </a:lnTo>
                <a:lnTo>
                  <a:pt x="0" y="0"/>
                </a:lnTo>
                <a:close/>
              </a:path>
            </a:pathLst>
          </a:custGeom>
          <a:solidFill>
            <a:srgbClr val="ff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9"/>
          <p:cNvSpPr/>
          <p:nvPr/>
        </p:nvSpPr>
        <p:spPr>
          <a:xfrm>
            <a:off x="3852720" y="4716360"/>
            <a:ext cx="543240" cy="292320"/>
          </a:xfrm>
          <a:custGeom>
            <a:avLst/>
            <a:gdLst>
              <a:gd name="textAreaLeft" fmla="*/ 0 w 543240"/>
              <a:gd name="textAreaRight" fmla="*/ 543600 w 5432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684" h="368">
                <a:moveTo>
                  <a:pt x="142" y="0"/>
                </a:moveTo>
                <a:lnTo>
                  <a:pt x="321" y="35"/>
                </a:lnTo>
                <a:lnTo>
                  <a:pt x="501" y="47"/>
                </a:lnTo>
                <a:lnTo>
                  <a:pt x="684" y="37"/>
                </a:lnTo>
                <a:lnTo>
                  <a:pt x="659" y="363"/>
                </a:lnTo>
                <a:lnTo>
                  <a:pt x="436" y="368"/>
                </a:lnTo>
                <a:lnTo>
                  <a:pt x="215" y="345"/>
                </a:lnTo>
                <a:lnTo>
                  <a:pt x="0" y="295"/>
                </a:lnTo>
                <a:lnTo>
                  <a:pt x="142" y="0"/>
                </a:lnTo>
                <a:close/>
              </a:path>
            </a:pathLst>
          </a:custGeom>
          <a:solidFill>
            <a:srgbClr val="ff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20"/>
          <p:cNvGrpSpPr/>
          <p:nvPr/>
        </p:nvGrpSpPr>
        <p:grpSpPr>
          <a:xfrm>
            <a:off x="2874960" y="2197080"/>
            <a:ext cx="2787480" cy="3088800"/>
            <a:chOff x="2874960" y="2197080"/>
            <a:chExt cx="2787480" cy="3088800"/>
          </a:xfrm>
        </p:grpSpPr>
        <p:sp>
          <p:nvSpPr>
            <p:cNvPr id="230" name="Freeform 21"/>
            <p:cNvSpPr/>
            <p:nvPr/>
          </p:nvSpPr>
          <p:spPr>
            <a:xfrm>
              <a:off x="2874960" y="3809880"/>
              <a:ext cx="339480" cy="3391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428" h="428">
                  <a:moveTo>
                    <a:pt x="318" y="4"/>
                  </a:moveTo>
                  <a:lnTo>
                    <a:pt x="361" y="181"/>
                  </a:lnTo>
                  <a:lnTo>
                    <a:pt x="428" y="351"/>
                  </a:lnTo>
                  <a:lnTo>
                    <a:pt x="109" y="428"/>
                  </a:lnTo>
                  <a:lnTo>
                    <a:pt x="35" y="218"/>
                  </a:lnTo>
                  <a:lnTo>
                    <a:pt x="0" y="0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874960" y="3114360"/>
              <a:ext cx="288720" cy="4093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65" h="518">
                  <a:moveTo>
                    <a:pt x="365" y="162"/>
                  </a:moveTo>
                  <a:lnTo>
                    <a:pt x="321" y="337"/>
                  </a:lnTo>
                  <a:lnTo>
                    <a:pt x="296" y="518"/>
                  </a:lnTo>
                  <a:lnTo>
                    <a:pt x="0" y="433"/>
                  </a:lnTo>
                  <a:lnTo>
                    <a:pt x="16" y="214"/>
                  </a:lnTo>
                  <a:lnTo>
                    <a:pt x="81" y="0"/>
                  </a:lnTo>
                  <a:lnTo>
                    <a:pt x="365" y="162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3101760" y="2538000"/>
              <a:ext cx="371520" cy="4428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68" h="558">
                  <a:moveTo>
                    <a:pt x="468" y="277"/>
                  </a:moveTo>
                  <a:lnTo>
                    <a:pt x="344" y="410"/>
                  </a:lnTo>
                  <a:lnTo>
                    <a:pt x="237" y="558"/>
                  </a:lnTo>
                  <a:lnTo>
                    <a:pt x="0" y="330"/>
                  </a:lnTo>
                  <a:lnTo>
                    <a:pt x="137" y="156"/>
                  </a:lnTo>
                  <a:lnTo>
                    <a:pt x="296" y="0"/>
                  </a:lnTo>
                  <a:lnTo>
                    <a:pt x="468" y="277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3630600" y="2225520"/>
              <a:ext cx="345960" cy="3646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435" h="460">
                  <a:moveTo>
                    <a:pt x="435" y="328"/>
                  </a:moveTo>
                  <a:lnTo>
                    <a:pt x="261" y="384"/>
                  </a:lnTo>
                  <a:lnTo>
                    <a:pt x="96" y="460"/>
                  </a:lnTo>
                  <a:lnTo>
                    <a:pt x="0" y="148"/>
                  </a:lnTo>
                  <a:lnTo>
                    <a:pt x="203" y="62"/>
                  </a:lnTo>
                  <a:lnTo>
                    <a:pt x="417" y="0"/>
                  </a:lnTo>
                  <a:lnTo>
                    <a:pt x="435" y="328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4263840" y="2197080"/>
              <a:ext cx="397080" cy="2919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502" h="368">
                  <a:moveTo>
                    <a:pt x="360" y="368"/>
                  </a:moveTo>
                  <a:lnTo>
                    <a:pt x="181" y="333"/>
                  </a:lnTo>
                  <a:lnTo>
                    <a:pt x="0" y="320"/>
                  </a:lnTo>
                  <a:lnTo>
                    <a:pt x="63" y="0"/>
                  </a:lnTo>
                  <a:lnTo>
                    <a:pt x="286" y="22"/>
                  </a:lnTo>
                  <a:lnTo>
                    <a:pt x="502" y="73"/>
                  </a:lnTo>
                  <a:lnTo>
                    <a:pt x="360" y="368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4816440" y="2398320"/>
              <a:ext cx="444240" cy="3679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59" h="465">
                  <a:moveTo>
                    <a:pt x="291" y="465"/>
                  </a:moveTo>
                  <a:lnTo>
                    <a:pt x="152" y="349"/>
                  </a:lnTo>
                  <a:lnTo>
                    <a:pt x="0" y="249"/>
                  </a:lnTo>
                  <a:lnTo>
                    <a:pt x="210" y="0"/>
                  </a:lnTo>
                  <a:lnTo>
                    <a:pt x="394" y="126"/>
                  </a:lnTo>
                  <a:lnTo>
                    <a:pt x="559" y="275"/>
                  </a:lnTo>
                  <a:lnTo>
                    <a:pt x="291" y="465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5230800" y="2898360"/>
              <a:ext cx="380880" cy="3520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479" h="446">
                  <a:moveTo>
                    <a:pt x="153" y="446"/>
                  </a:moveTo>
                  <a:lnTo>
                    <a:pt x="86" y="276"/>
                  </a:lnTo>
                  <a:lnTo>
                    <a:pt x="0" y="116"/>
                  </a:lnTo>
                  <a:lnTo>
                    <a:pt x="306" y="0"/>
                  </a:lnTo>
                  <a:lnTo>
                    <a:pt x="404" y="199"/>
                  </a:lnTo>
                  <a:lnTo>
                    <a:pt x="479" y="409"/>
                  </a:lnTo>
                  <a:lnTo>
                    <a:pt x="153" y="446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5386320" y="3535200"/>
              <a:ext cx="276120" cy="387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349" h="487">
                  <a:moveTo>
                    <a:pt x="0" y="361"/>
                  </a:moveTo>
                  <a:lnTo>
                    <a:pt x="23" y="180"/>
                  </a:lnTo>
                  <a:lnTo>
                    <a:pt x="25" y="0"/>
                  </a:lnTo>
                  <a:lnTo>
                    <a:pt x="349" y="44"/>
                  </a:lnTo>
                  <a:lnTo>
                    <a:pt x="340" y="266"/>
                  </a:lnTo>
                  <a:lnTo>
                    <a:pt x="304" y="48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4674960" y="4536720"/>
              <a:ext cx="362160" cy="3934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57" h="496">
                  <a:moveTo>
                    <a:pt x="0" y="173"/>
                  </a:moveTo>
                  <a:lnTo>
                    <a:pt x="165" y="96"/>
                  </a:lnTo>
                  <a:lnTo>
                    <a:pt x="320" y="0"/>
                  </a:lnTo>
                  <a:lnTo>
                    <a:pt x="457" y="298"/>
                  </a:lnTo>
                  <a:lnTo>
                    <a:pt x="264" y="410"/>
                  </a:lnTo>
                  <a:lnTo>
                    <a:pt x="58" y="49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5138640" y="4097160"/>
              <a:ext cx="365040" cy="4442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459" h="562">
                  <a:moveTo>
                    <a:pt x="0" y="307"/>
                  </a:moveTo>
                  <a:lnTo>
                    <a:pt x="108" y="160"/>
                  </a:lnTo>
                  <a:lnTo>
                    <a:pt x="196" y="0"/>
                  </a:lnTo>
                  <a:lnTo>
                    <a:pt x="459" y="197"/>
                  </a:lnTo>
                  <a:lnTo>
                    <a:pt x="343" y="386"/>
                  </a:lnTo>
                  <a:lnTo>
                    <a:pt x="207" y="562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3138480" y="4331880"/>
              <a:ext cx="438120" cy="3744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552" h="472">
                  <a:moveTo>
                    <a:pt x="289" y="0"/>
                  </a:moveTo>
                  <a:lnTo>
                    <a:pt x="412" y="133"/>
                  </a:lnTo>
                  <a:lnTo>
                    <a:pt x="552" y="251"/>
                  </a:lnTo>
                  <a:lnTo>
                    <a:pt x="310" y="472"/>
                  </a:lnTo>
                  <a:lnTo>
                    <a:pt x="145" y="323"/>
                  </a:lnTo>
                  <a:lnTo>
                    <a:pt x="0" y="154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3755880" y="4404960"/>
              <a:ext cx="439920" cy="8809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552" h="1110">
                  <a:moveTo>
                    <a:pt x="385" y="0"/>
                  </a:moveTo>
                  <a:lnTo>
                    <a:pt x="0" y="489"/>
                  </a:lnTo>
                  <a:lnTo>
                    <a:pt x="150" y="1110"/>
                  </a:lnTo>
                  <a:lnTo>
                    <a:pt x="363" y="1082"/>
                  </a:lnTo>
                  <a:lnTo>
                    <a:pt x="300" y="594"/>
                  </a:lnTo>
                  <a:lnTo>
                    <a:pt x="552" y="124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33"/>
          <p:cNvSpPr/>
          <p:nvPr/>
        </p:nvSpPr>
        <p:spPr>
          <a:xfrm>
            <a:off x="638280" y="256392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2. In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2847960" y="112536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3. Desire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3348000" y="3235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Pr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5289480" y="4621320"/>
            <a:ext cx="266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5.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5972040" y="271620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4. Intentional commitment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>
            <a:off x="5580000" y="36464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3203640" y="364644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18880" y="1282320"/>
            <a:ext cx="2336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OPEN </a:t>
            </a:r>
            <a:br>
              <a:rPr sz="2800"/>
            </a:b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292720" y="5156280"/>
            <a:ext cx="180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 </a:t>
            </a: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UNKNOWN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979640" y="5156280"/>
            <a:ext cx="194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CONC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4959360" y="1298520"/>
            <a:ext cx="2133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BLIND </a:t>
            </a:r>
            <a:br>
              <a:rPr sz="2800"/>
            </a:b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2556000" y="549360"/>
            <a:ext cx="1366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I 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1835280" y="1128600"/>
            <a:ext cx="5459400" cy="508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4572000" y="1125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835280" y="36464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4716360" y="549360"/>
            <a:ext cx="2378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I  don’t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50920" y="2205000"/>
            <a:ext cx="13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41440" y="4365720"/>
            <a:ext cx="10778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You don’t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268360" y="3746520"/>
            <a:ext cx="187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72000" y="2421000"/>
            <a:ext cx="936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 rot="16200000">
            <a:off x="3953880" y="2170080"/>
            <a:ext cx="191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580000" y="1125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35280" y="45100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572000" y="36464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572000" y="36464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4614840" y="3675240"/>
            <a:ext cx="100800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4643280" y="3746520"/>
            <a:ext cx="171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4572000" y="451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6"/>
          <p:cNvGrpSpPr/>
          <p:nvPr/>
        </p:nvGrpSpPr>
        <p:grpSpPr>
          <a:xfrm>
            <a:off x="790560" y="-192240"/>
            <a:ext cx="6345360" cy="6105960"/>
            <a:chOff x="790560" y="-192240"/>
            <a:chExt cx="6345360" cy="6105960"/>
          </a:xfrm>
        </p:grpSpPr>
        <p:sp>
          <p:nvSpPr>
            <p:cNvPr id="271" name="AutoShape 2"/>
            <p:cNvSpPr/>
            <p:nvPr/>
          </p:nvSpPr>
          <p:spPr>
            <a:xfrm>
              <a:off x="1496880" y="102888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3"/>
            <p:cNvSpPr/>
            <p:nvPr/>
          </p:nvSpPr>
          <p:spPr>
            <a:xfrm>
              <a:off x="2900160" y="346716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4316400" y="103500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5"/>
            <p:cNvSpPr/>
            <p:nvPr/>
          </p:nvSpPr>
          <p:spPr>
            <a:xfrm rot="18000000">
              <a:off x="3960720" y="2863800"/>
              <a:ext cx="2819520" cy="243864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 rot="18000000">
              <a:off x="1141200" y="285732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 rot="18000000">
              <a:off x="2557080" y="41904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>
              <a:off x="3554280" y="2705040"/>
              <a:ext cx="1524240" cy="152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evelo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elf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awar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3313080" y="1143000"/>
              <a:ext cx="1981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Fulfill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perso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commit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4836960" y="373392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ealing wit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isappoint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2170080" y="3732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Fac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our dar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3"/>
            <p:cNvSpPr/>
            <p:nvPr/>
          </p:nvSpPr>
          <p:spPr>
            <a:xfrm>
              <a:off x="2283840" y="2133720"/>
              <a:ext cx="12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Handling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uff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w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5109120" y="2133720"/>
              <a:ext cx="13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Exercis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piritu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iscip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3476160" y="4724280"/>
              <a:ext cx="175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Break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throug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quitting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h03894i"/>
          <p:cNvPicPr/>
          <p:nvPr/>
        </p:nvPicPr>
        <p:blipFill>
          <a:blip r:embed="rId1"/>
          <a:srcRect l="0" t="0" r="6250" b="2632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0" y="4797360"/>
            <a:ext cx="9144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Which single quality might God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most like to work on in your lif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800" y="318960"/>
            <a:ext cx="85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2 PETER 1:1-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33520" y="2571840"/>
            <a:ext cx="2519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1098720" y="3479760"/>
            <a:ext cx="22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Self-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5746680" y="3727440"/>
            <a:ext cx="21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End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6372360" y="1484280"/>
            <a:ext cx="19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Godl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82560" y="141300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Mutual af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4284720" y="184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4859280" y="2898720"/>
            <a:ext cx="12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Faith</a:t>
            </a: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5: Discerning dir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9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29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f36c23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55640" y="150804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1 – FIRM FOUNDATIONS FOR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24000" y="2762280"/>
            <a:ext cx="6459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: Leadership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2: Establishing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3: Clarifying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4: Developing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19040" y="98064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Medium"/>
              </a:rPr>
              <a:t>REVIEW SESSION 3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CLARIFYING CALL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18680" y="240984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 call? Primary and secondary call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y does call matter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do we discern God’s call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ive steps to developing a personal life stateme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833400"/>
            <a:ext cx="754380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</a:rPr>
              <a:t>SESSION 4</a:t>
            </a:r>
            <a:r>
              <a:rPr b="0" lang="en-GB" sz="60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DEVELOPING CHARACTER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4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/>
          <p:cNvSpPr/>
          <p:nvPr/>
        </p:nvSpPr>
        <p:spPr>
          <a:xfrm>
            <a:off x="2276640" y="1143000"/>
            <a:ext cx="464796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610080" y="29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1940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32360" y="487188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3228480" y="369576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212800" y="3708000"/>
            <a:ext cx="644760" cy="5821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300720" y="3411360"/>
            <a:ext cx="2843280" cy="3446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54756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6050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define/describe charac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why godly character is so important in leadership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explore ways of growing to be like Chris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7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57" name="Rectangle 3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Picture 6" descr="David Brent"/>
          <p:cNvPicPr/>
          <p:nvPr/>
        </p:nvPicPr>
        <p:blipFill>
          <a:blip r:embed="rId2"/>
          <a:stretch/>
        </p:blipFill>
        <p:spPr>
          <a:xfrm>
            <a:off x="257040" y="31896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60" name="Group 12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61" name="Rectangle 8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Picture 11" descr="David Brent"/>
          <p:cNvPicPr/>
          <p:nvPr/>
        </p:nvPicPr>
        <p:blipFill>
          <a:blip r:embed="rId3"/>
          <a:stretch/>
        </p:blipFill>
        <p:spPr>
          <a:xfrm>
            <a:off x="257040" y="262260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64" name="Group 17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65" name="Rectangle 13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16" descr="David Brent"/>
          <p:cNvPicPr/>
          <p:nvPr/>
        </p:nvPicPr>
        <p:blipFill>
          <a:blip r:embed="rId4"/>
          <a:stretch/>
        </p:blipFill>
        <p:spPr>
          <a:xfrm>
            <a:off x="257040" y="485604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/>
          <p:cNvSpPr/>
          <p:nvPr/>
        </p:nvSpPr>
        <p:spPr>
          <a:xfrm>
            <a:off x="0" y="0"/>
            <a:ext cx="952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-63036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69720" y="11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-63036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-879480" y="-127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4" descr="1"/>
          <p:cNvPicPr/>
          <p:nvPr/>
        </p:nvPicPr>
        <p:blipFill>
          <a:blip r:embed="rId1"/>
          <a:stretch/>
        </p:blipFill>
        <p:spPr>
          <a:xfrm>
            <a:off x="-50760" y="32767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2"/>
          <p:cNvSpPr/>
          <p:nvPr/>
        </p:nvSpPr>
        <p:spPr>
          <a:xfrm>
            <a:off x="369720" y="11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-3492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1" descr="4"/>
          <p:cNvPicPr/>
          <p:nvPr/>
        </p:nvPicPr>
        <p:blipFill>
          <a:blip r:embed="rId2"/>
          <a:stretch/>
        </p:blipFill>
        <p:spPr>
          <a:xfrm>
            <a:off x="4572000" y="3314880"/>
            <a:ext cx="5029200" cy="35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troy_splash_r2c1-1"/>
          <p:cNvPicPr/>
          <p:nvPr/>
        </p:nvPicPr>
        <p:blipFill>
          <a:blip r:embed="rId3"/>
          <a:stretch/>
        </p:blipFill>
        <p:spPr>
          <a:xfrm>
            <a:off x="0" y="0"/>
            <a:ext cx="9524880" cy="34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5714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MATURE: BUILD ON STRENGTHS, MANAGE AROUND LIMITATIONS</a:t>
            </a:r>
            <a:endParaRPr b="0" lang="en-US" sz="32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2879640" cy="2133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692360" y="1447920"/>
            <a:ext cx="2879640" cy="19810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72000" y="3429000"/>
            <a:ext cx="2968560" cy="2133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72000" y="1447920"/>
            <a:ext cx="2971800" cy="19810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Skills/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900000" y="0"/>
            <a:ext cx="755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Franklin Gothic Book"/>
              </a:rPr>
              <a:t>MATURE: HUMBLE ABOUT STRENGTHS, WORKING ON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914400"/>
            <a:ext cx="380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Incre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914400" y="1447920"/>
            <a:ext cx="0" cy="39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666880" y="28576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Book"/>
              </a:rPr>
              <a:t>Developing self-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9-09T18:09:18Z</dcterms:modified>
  <cp:revision>70</cp:revision>
  <dc:subject/>
  <dc:title>PowerPoint Presentation</dc:title>
</cp:coreProperties>
</file>