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4.png" ContentType="image/png"/>
  <Override PartName="/ppt/media/image1.png" ContentType="image/pn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36.jpeg" ContentType="image/jpeg"/>
  <Override PartName="/ppt/media/image41.jpeg" ContentType="image/jpe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9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4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047CB-F329-4703-BE7F-1B23453BB43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89FF-9B53-4C42-A786-F5F436356B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AC992-16DF-4749-8DDF-214323DAEF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A173-AFF4-45FE-8556-F2B3802034C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3890-582E-4F95-A2EC-C1DCD15833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CC76-50FB-4CE6-87CD-2C22876B4D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4610-AB3A-49AE-B44A-96597E2A13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80F4-31DA-4C0A-B7A1-CE1DCAC1B54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F74A0-8719-4902-BB50-E41B7059BC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A763-4F67-4F53-B063-9EE3F95D17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143BF-5819-4B6E-9424-09C0B299BC4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F775-1224-4FEB-9DB1-E5F6437A92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2880" y="4716000"/>
            <a:ext cx="4962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2F74-9DE6-4601-BBFD-57E10A3DBD5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27CE-9831-489F-807A-A3028CB735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2880" y="4716000"/>
            <a:ext cx="4962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E83E-7A48-47D9-8730-39FFF6E5E73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alvett"/>
              <a:ea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11CA-9D17-4A46-B4A3-CE3DEF3921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alvett"/>
              <a:ea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2C4F-2865-4F1F-B3FC-27D5E262F0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BCE4-A7F1-4942-B336-473C4FE2E2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7B14-33D3-4F56-93AA-AD63812BED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E149-F8FD-4D66-9A6F-66ED884548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ERCI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st the things that have grown you as a l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879A-2955-434D-A9F5-A78B497E816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06480" y="3841560"/>
            <a:ext cx="4984560" cy="53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aining fo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cus on team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OTE ‘Never give a team leadership role to someone without training.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ach generic roles three 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. Se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ery hard to grow leaders, choose people who are leaders  alrea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. Line managers as l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ople learn about leaders from those who apprentice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st done on the job, therefore mentors not as helpful (also often not leaders themselv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4. The chance to l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ganisations provide necessary conditions for growth, chief of these is the chance to l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e level not too difficult/easy therefore stre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5. Education for leade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art you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ally need experience to reflect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6. Strategy for leadership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ed long term, importance, multi-compo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7. Chief Execu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EO leads the process from the fro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ead by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B98E-8156-48DC-9FA6-F236E170FA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2C60-BA86-4778-9AC8-700D01EB84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02880" y="4716000"/>
            <a:ext cx="4962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30624-08A0-4645-8C2C-D6D77D5940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F841-D60D-4615-948F-6C202400F17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0543F-BC8D-43BE-9095-9F66C8C873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703520" y="1003320"/>
            <a:ext cx="3457440" cy="25923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45680" y="3954240"/>
            <a:ext cx="5977080" cy="52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2764-AE26-4CF4-A676-5681D8EA17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6CF6-98C4-482A-B735-02819DFC05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C6845-FCC3-4793-9D89-572B0EC2D5A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5764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49FE-2262-4955-888F-9DB7794D9A3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26C9-C156-4582-AC97-BDA1639216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574640" y="826920"/>
            <a:ext cx="3722760" cy="2792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06480" y="3843360"/>
            <a:ext cx="4984560" cy="533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87B7-24FF-4B1F-88BD-367E7978B0A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871640" y="685800"/>
            <a:ext cx="3049560" cy="2286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320840" y="3200400"/>
            <a:ext cx="4116240" cy="59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E54D-58DC-4F2C-B864-EC78212E2C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86920" y="405756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8692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236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7976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77296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8692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7976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77296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86920" y="19080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18692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86920" y="19080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236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86920" y="405756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1186920" y="405756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692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236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7976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772960" y="190800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118692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7976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772960" y="4057560"/>
            <a:ext cx="218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86920" y="765000"/>
            <a:ext cx="678204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8692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2360" y="405756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2360" y="1908000"/>
            <a:ext cx="3309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6920" y="4057560"/>
            <a:ext cx="678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6920" y="19080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Text Box 30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BA586AD6-7246-41F6-9280-7C36EAE7F128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692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586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6920" y="198108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Text Box 28"/>
          <p:cNvSpPr/>
          <p:nvPr/>
        </p:nvSpPr>
        <p:spPr>
          <a:xfrm>
            <a:off x="7238880" y="658332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Slide </a:t>
            </a:r>
            <a:fld id="{8B791A43-FC82-4B7E-9836-42AA99C513D1}" type="slidenum">
              <a:rPr b="0" lang="en-GB" sz="1000" spc="-1" strike="noStrike">
                <a:solidFill>
                  <a:srgbClr val="005586"/>
                </a:solidFill>
                <a:latin typeface="Franklin Gothic 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jpeg"/><Relationship Id="rId11" Type="http://schemas.openxmlformats.org/officeDocument/2006/relationships/image" Target="../media/image20.jpe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image" Target="../media/image23.jpeg"/><Relationship Id="rId15" Type="http://schemas.openxmlformats.org/officeDocument/2006/relationships/image" Target="../media/image24.jpeg"/><Relationship Id="rId16" Type="http://schemas.openxmlformats.org/officeDocument/2006/relationships/image" Target="../media/image25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18"/>
          <p:cNvGrpSpPr/>
          <p:nvPr/>
        </p:nvGrpSpPr>
        <p:grpSpPr>
          <a:xfrm>
            <a:off x="6183360" y="0"/>
            <a:ext cx="2781360" cy="6858000"/>
            <a:chOff x="6183360" y="0"/>
            <a:chExt cx="2781360" cy="6858000"/>
          </a:xfrm>
        </p:grpSpPr>
        <p:pic>
          <p:nvPicPr>
            <p:cNvPr id="86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18336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64164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56928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TextBox 6"/>
          <p:cNvSpPr/>
          <p:nvPr/>
        </p:nvSpPr>
        <p:spPr>
          <a:xfrm>
            <a:off x="1014480" y="2055960"/>
            <a:ext cx="79502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5586"/>
                </a:solidFill>
                <a:latin typeface="Franklin Gothic Medium"/>
                <a:ea typeface="Arial"/>
              </a:rPr>
              <a:t>GROWING LEADERS COURS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2"/>
          <p:cNvGrpSpPr/>
          <p:nvPr/>
        </p:nvGrpSpPr>
        <p:grpSpPr>
          <a:xfrm>
            <a:off x="3132000" y="104960880"/>
            <a:ext cx="3800160" cy="10299600"/>
            <a:chOff x="3132000" y="104960880"/>
            <a:chExt cx="3800160" cy="10299600"/>
          </a:xfrm>
        </p:grpSpPr>
        <p:pic>
          <p:nvPicPr>
            <p:cNvPr id="91" name="Picture 13" descr="Hoop-black"/>
            <p:cNvPicPr/>
            <p:nvPr/>
          </p:nvPicPr>
          <p:blipFill>
            <a:blip r:embed="rId4"/>
            <a:stretch/>
          </p:blipFill>
          <p:spPr>
            <a:xfrm>
              <a:off x="3132000" y="109233000"/>
              <a:ext cx="2638440" cy="214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" name="Group 14"/>
            <p:cNvGrpSpPr/>
            <p:nvPr/>
          </p:nvGrpSpPr>
          <p:grpSpPr>
            <a:xfrm>
              <a:off x="4016520" y="104960880"/>
              <a:ext cx="2915640" cy="10299600"/>
              <a:chOff x="4016520" y="104960880"/>
              <a:chExt cx="2915640" cy="10299600"/>
            </a:xfrm>
          </p:grpSpPr>
          <p:pic>
            <p:nvPicPr>
              <p:cNvPr id="93" name="Picture 15" descr=""/>
              <p:cNvPicPr/>
              <p:nvPr/>
            </p:nvPicPr>
            <p:blipFill>
              <a:blip r:embed="rId5"/>
              <a:srcRect l="-1829" t="-1216" r="0" b="-1515"/>
              <a:stretch/>
            </p:blipFill>
            <p:spPr>
              <a:xfrm flipH="1">
                <a:off x="4370760" y="105824880"/>
                <a:ext cx="2423520" cy="173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6" descr="Curve_orange"/>
              <p:cNvPicPr/>
              <p:nvPr/>
            </p:nvPicPr>
            <p:blipFill>
              <a:blip r:embed="rId6"/>
              <a:srcRect l="-3210" t="19915" r="0" b="3255"/>
              <a:stretch/>
            </p:blipFill>
            <p:spPr>
              <a:xfrm rot="10800000">
                <a:off x="4016520" y="104960880"/>
                <a:ext cx="2915640" cy="1029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" name="Rectangle 17"/>
          <p:cNvSpPr/>
          <p:nvPr/>
        </p:nvSpPr>
        <p:spPr>
          <a:xfrm>
            <a:off x="107118000" y="105011640"/>
            <a:ext cx="4542120" cy="10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13" descr=""/>
          <p:cNvPicPr/>
          <p:nvPr/>
        </p:nvPicPr>
        <p:blipFill>
          <a:blip r:embed="rId7"/>
          <a:stretch/>
        </p:blipFill>
        <p:spPr>
          <a:xfrm>
            <a:off x="527040" y="-243000"/>
            <a:ext cx="1812960" cy="18129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132000" y="1760400"/>
            <a:ext cx="5796000" cy="333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ranklin Gothic Book"/>
              </a:rPr>
              <a:t>How do you tell the difference between an unlikely prospect and a unwise?</a:t>
            </a:r>
            <a:endParaRPr b="0" lang="en-US" sz="40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44" name="Picture 3" descr="j0401828.jpg"/>
          <p:cNvPicPr/>
          <p:nvPr/>
        </p:nvPicPr>
        <p:blipFill>
          <a:blip r:embed="rId1"/>
          <a:srcRect l="8646" t="0" r="34688" b="0"/>
          <a:stretch/>
        </p:blipFill>
        <p:spPr>
          <a:xfrm>
            <a:off x="324000" y="311040"/>
            <a:ext cx="2355840" cy="62359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50920" y="1557000"/>
            <a:ext cx="44658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Jesus appoints the disciples to be with him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akes intention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akes time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akes its toll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0"/>
            <a:ext cx="9144000" cy="1047600"/>
          </a:xfrm>
          <a:prstGeom prst="rect">
            <a:avLst/>
          </a:prstGeom>
          <a:solidFill>
            <a:srgbClr val="0055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STAGE 2 – INVEST (MARK 3:1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MPj04243940000[1]"/>
          <p:cNvPicPr/>
          <p:nvPr/>
        </p:nvPicPr>
        <p:blipFill>
          <a:blip r:embed="rId1"/>
          <a:srcRect l="0" t="689" r="0" b="0"/>
          <a:stretch/>
        </p:blipFill>
        <p:spPr>
          <a:xfrm>
            <a:off x="466560" y="1700280"/>
            <a:ext cx="3059280" cy="202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Oval 2"/>
          <p:cNvSpPr/>
          <p:nvPr/>
        </p:nvSpPr>
        <p:spPr>
          <a:xfrm>
            <a:off x="1447920" y="457200"/>
            <a:ext cx="6324480" cy="59436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4d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3"/>
          <p:cNvSpPr/>
          <p:nvPr/>
        </p:nvSpPr>
        <p:spPr>
          <a:xfrm>
            <a:off x="2247840" y="1143000"/>
            <a:ext cx="4648320" cy="358128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eb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3564000" y="293364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190600" y="48718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992840" y="4871880"/>
            <a:ext cx="218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3357720" y="6094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 flipH="1">
            <a:off x="3200040" y="3695760"/>
            <a:ext cx="685800" cy="533520"/>
          </a:xfrm>
          <a:prstGeom prst="line">
            <a:avLst/>
          </a:prstGeom>
          <a:ln w="38160">
            <a:solidFill>
              <a:srgbClr val="004d9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"/>
          <p:cNvSpPr/>
          <p:nvPr/>
        </p:nvSpPr>
        <p:spPr>
          <a:xfrm>
            <a:off x="5184000" y="3708000"/>
            <a:ext cx="644760" cy="582120"/>
          </a:xfrm>
          <a:prstGeom prst="line">
            <a:avLst/>
          </a:prstGeom>
          <a:ln w="38160">
            <a:solidFill>
              <a:srgbClr val="004d9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0"/>
          <p:cNvSpPr/>
          <p:nvPr/>
        </p:nvSpPr>
        <p:spPr>
          <a:xfrm>
            <a:off x="4572000" y="1775520"/>
            <a:ext cx="0" cy="868680"/>
          </a:xfrm>
          <a:prstGeom prst="line">
            <a:avLst/>
          </a:prstGeom>
          <a:ln w="38160">
            <a:solidFill>
              <a:srgbClr val="004d9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6553080" y="200016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2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31640" y="1197000"/>
            <a:ext cx="53276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WHY DEVELOP?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3108240" y="2232000"/>
            <a:ext cx="561672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Identify five reasons why developing leaders is g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Now list them in order of prior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3" descr="j0401828.jpg"/>
          <p:cNvPicPr/>
          <p:nvPr/>
        </p:nvPicPr>
        <p:blipFill>
          <a:blip r:embed="rId1"/>
          <a:srcRect l="8646" t="0" r="34688" b="0"/>
          <a:stretch/>
        </p:blipFill>
        <p:spPr>
          <a:xfrm>
            <a:off x="324000" y="311040"/>
            <a:ext cx="2355840" cy="62359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5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141720" y="1484280"/>
            <a:ext cx="531792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WHY DEVELOP?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3182760" y="2492280"/>
            <a:ext cx="51231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List three answers to the question ‘Why don’t I develop leaders?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j0401828.jpg"/>
          <p:cNvPicPr/>
          <p:nvPr/>
        </p:nvPicPr>
        <p:blipFill>
          <a:blip r:embed="rId1"/>
          <a:srcRect l="8646" t="0" r="34688" b="0"/>
          <a:stretch/>
        </p:blipFill>
        <p:spPr>
          <a:xfrm>
            <a:off x="324000" y="311040"/>
            <a:ext cx="2355840" cy="62359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5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j0149024"/>
          <p:cNvPicPr/>
          <p:nvPr/>
        </p:nvPicPr>
        <p:blipFill>
          <a:blip r:embed="rId1"/>
          <a:srcRect l="6417" t="0" r="5650" b="2643"/>
          <a:stretch/>
        </p:blipFill>
        <p:spPr>
          <a:xfrm>
            <a:off x="415800" y="311040"/>
            <a:ext cx="8312400" cy="623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3492360" y="300600"/>
            <a:ext cx="4967280" cy="18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Franklin Gothic Medium"/>
              </a:rPr>
              <a:t>Lord Jesus, by your Spirit please help N to overcome these difficulties and to be a person who for the sake of many invests in a few. Am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779640" y="1484280"/>
            <a:ext cx="48956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7960" indent="-237960">
              <a:lnSpc>
                <a:spcPct val="115000"/>
              </a:lnSpc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Jesus appoints the disciples to go out for him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0"/>
            <a:ext cx="9144000" cy="1047600"/>
          </a:xfrm>
          <a:prstGeom prst="rect">
            <a:avLst/>
          </a:prstGeom>
          <a:solidFill>
            <a:srgbClr val="0055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Franklin Gothic Medium"/>
              </a:rPr>
              <a:t>STAGE 3 – ENTRUST (MARK 3:1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MPj04243940000[1]"/>
          <p:cNvPicPr/>
          <p:nvPr/>
        </p:nvPicPr>
        <p:blipFill>
          <a:blip r:embed="rId1"/>
          <a:srcRect l="0" t="689" r="0" b="0"/>
          <a:stretch/>
        </p:blipFill>
        <p:spPr>
          <a:xfrm>
            <a:off x="466560" y="1585800"/>
            <a:ext cx="3059280" cy="2024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5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1346040" y="2222640"/>
            <a:ext cx="603432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Jesus grew </a:t>
            </a:r>
            <a:br>
              <a:rPr sz="4400"/>
            </a:b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1328760" y="4361040"/>
            <a:ext cx="640872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Consider Mark 3-6. What insights do you gain on entrusting others with leadership responsibi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0"/>
            <a:ext cx="9144000" cy="1047600"/>
          </a:xfrm>
          <a:prstGeom prst="rect">
            <a:avLst/>
          </a:prstGeom>
          <a:solidFill>
            <a:srgbClr val="0055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AGE 3 – ENTRU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9" descr="C:\Users\jamesl\AppData\Local\Microsoft\Windows\Temporary Internet Files\Content.IE5\5DPS72JC\MP900384794[1].jpg"/>
          <p:cNvPicPr/>
          <p:nvPr/>
        </p:nvPicPr>
        <p:blipFill>
          <a:blip r:embed="rId1"/>
          <a:stretch/>
        </p:blipFill>
        <p:spPr>
          <a:xfrm>
            <a:off x="4716360" y="1484280"/>
            <a:ext cx="3343320" cy="267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46200" y="1052640"/>
            <a:ext cx="6338880" cy="32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US" sz="3600" spc="-1" strike="noStrike">
                <a:solidFill>
                  <a:srgbClr val="000000"/>
                </a:solidFill>
                <a:latin typeface="Franklin Gothic Book"/>
              </a:rPr>
              <a:t>For Jesus the bottom line wasn’t just getting the job done. It was developing others and getting the job done.’</a:t>
            </a:r>
            <a:endParaRPr b="0" lang="en-US" sz="36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546200" y="4149720"/>
            <a:ext cx="216216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586"/>
                </a:solidFill>
                <a:latin typeface="Franklin Gothic Book"/>
              </a:rPr>
              <a:t>Leighton Ford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5"/>
          <p:cNvSpPr/>
          <p:nvPr/>
        </p:nvSpPr>
        <p:spPr>
          <a:xfrm>
            <a:off x="8558280" y="620640"/>
            <a:ext cx="117144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00400" y="693720"/>
            <a:ext cx="5943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COMMON BLOCKAGES</a:t>
            </a:r>
            <a:endParaRPr b="0" lang="en-US" sz="40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276360" y="1905120"/>
            <a:ext cx="5111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Middle-class model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Using only those who’ve already le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Our own insecur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2" name="Picture 6" descr="Image result for red traffic light"/>
          <p:cNvPicPr/>
          <p:nvPr/>
        </p:nvPicPr>
        <p:blipFill>
          <a:blip r:embed="rId1"/>
          <a:srcRect l="13098" t="558" r="57331" b="-548"/>
          <a:stretch/>
        </p:blipFill>
        <p:spPr>
          <a:xfrm>
            <a:off x="279360" y="312840"/>
            <a:ext cx="2779920" cy="62593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4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87280" y="1269720"/>
            <a:ext cx="676944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36c23"/>
                </a:solidFill>
                <a:latin typeface="Franklin Gothic Medium"/>
              </a:rPr>
              <a:t>REVIEW SESSION 5 </a:t>
            </a:r>
            <a:br>
              <a:rPr sz="2800"/>
            </a:b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DISCERNING DIRECTION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6920" y="269892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Preparing the wa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eciding the direction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60360" indent="-36036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Making the journe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76720" y="620280"/>
            <a:ext cx="5867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5586"/>
                </a:solidFill>
                <a:latin typeface="Franklin Gothic Medium"/>
              </a:rPr>
              <a:t>COMMON BLOCKAGES</a:t>
            </a:r>
            <a:endParaRPr b="0" lang="en-US" sz="40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76720" y="1828800"/>
            <a:ext cx="5867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Critical atmospher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imited view of leadership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No sense of cal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ierarch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86" name="Picture 6" descr="Image result for red traffic light"/>
          <p:cNvPicPr/>
          <p:nvPr/>
        </p:nvPicPr>
        <p:blipFill>
          <a:blip r:embed="rId1"/>
          <a:srcRect l="13098" t="558" r="57331" b="-548"/>
          <a:stretch/>
        </p:blipFill>
        <p:spPr>
          <a:xfrm>
            <a:off x="341280" y="312840"/>
            <a:ext cx="2779920" cy="625932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9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36c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 algn="ctr">
              <a:lnSpc>
                <a:spcPct val="11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 algn="ctr">
              <a:lnSpc>
                <a:spcPct val="11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 algn="ctr">
              <a:lnSpc>
                <a:spcPct val="11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6000" spc="-1" strike="noStrike">
                <a:solidFill>
                  <a:srgbClr val="ffffff"/>
                </a:solidFill>
                <a:latin typeface="Franklin Gothic Medium"/>
              </a:rPr>
              <a:t>reflect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502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WHO TO DEVELOP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505320" y="1676520"/>
            <a:ext cx="5029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how to devel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55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 algn="ctr">
              <a:lnSpc>
                <a:spcPct val="11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 algn="ctr">
              <a:lnSpc>
                <a:spcPct val="110000"/>
              </a:lnSpc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18000" spc="-1" strike="noStrike">
                <a:solidFill>
                  <a:srgbClr val="ffffff"/>
                </a:solidFill>
                <a:latin typeface="Franklin Gothic Medium"/>
              </a:rPr>
              <a:t>pray</a:t>
            </a:r>
            <a:endParaRPr b="0" lang="en-US" sz="1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5554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36c23"/>
                </a:solidFill>
                <a:latin typeface="Franklin Gothic Medium"/>
              </a:rPr>
              <a:t>LORD HEAR US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3030480" y="4581360"/>
            <a:ext cx="5962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36c23"/>
                </a:solidFill>
                <a:latin typeface="Franklin Gothic Medium"/>
              </a:rPr>
              <a:t>Lord graciously hear 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49080" y="169992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NEXT SESSIO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649080" y="2771640"/>
            <a:ext cx="8243640" cy="32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7: Leading togethe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Dat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Venue: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Before then: Meet your mentor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196" name="Group 18"/>
          <p:cNvGrpSpPr/>
          <p:nvPr/>
        </p:nvGrpSpPr>
        <p:grpSpPr>
          <a:xfrm>
            <a:off x="6327720" y="0"/>
            <a:ext cx="2781360" cy="6858000"/>
            <a:chOff x="6327720" y="0"/>
            <a:chExt cx="2781360" cy="6858000"/>
          </a:xfrm>
        </p:grpSpPr>
        <p:pic>
          <p:nvPicPr>
            <p:cNvPr id="197" name="Picture 15" descr="Hoop_green.jpg"/>
            <p:cNvPicPr/>
            <p:nvPr/>
          </p:nvPicPr>
          <p:blipFill>
            <a:blip r:embed="rId1"/>
            <a:stretch/>
          </p:blipFill>
          <p:spPr>
            <a:xfrm>
              <a:off x="6327720" y="3213000"/>
              <a:ext cx="2018880" cy="163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16" descr="Hoop_orange.jpg"/>
            <p:cNvPicPr/>
            <p:nvPr/>
          </p:nvPicPr>
          <p:blipFill>
            <a:blip r:embed="rId2"/>
            <a:stretch/>
          </p:blipFill>
          <p:spPr>
            <a:xfrm>
              <a:off x="6786000" y="548640"/>
              <a:ext cx="2323080" cy="16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Branch.jpg"/>
            <p:cNvPicPr/>
            <p:nvPr/>
          </p:nvPicPr>
          <p:blipFill>
            <a:blip r:embed="rId3"/>
            <a:stretch/>
          </p:blipFill>
          <p:spPr>
            <a:xfrm>
              <a:off x="6713640" y="0"/>
              <a:ext cx="1941840" cy="685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Picture 13" descr=""/>
          <p:cNvPicPr/>
          <p:nvPr/>
        </p:nvPicPr>
        <p:blipFill>
          <a:blip r:embed="rId4"/>
          <a:stretch/>
        </p:blipFill>
        <p:spPr>
          <a:xfrm>
            <a:off x="324000" y="-177840"/>
            <a:ext cx="1452240" cy="1452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2411280" y="692280"/>
            <a:ext cx="4321440" cy="43225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3087720" y="5373720"/>
            <a:ext cx="450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itter"/>
                <a:ea typeface="MS PGothic"/>
              </a:rPr>
              <a:t>@CPASLead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2" descr="Image result for Twitter"/>
          <p:cNvPicPr/>
          <p:nvPr/>
        </p:nvPicPr>
        <p:blipFill>
          <a:blip r:embed="rId2"/>
          <a:stretch/>
        </p:blipFill>
        <p:spPr>
          <a:xfrm>
            <a:off x="2376360" y="5338800"/>
            <a:ext cx="677880" cy="6778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4"/>
          <p:cNvSpPr/>
          <p:nvPr/>
        </p:nvSpPr>
        <p:spPr>
          <a:xfrm>
            <a:off x="361800" y="311040"/>
            <a:ext cx="8425080" cy="626436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5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4923000" y="1844640"/>
            <a:ext cx="4248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4000" spc="-1" strike="noStrike">
                <a:solidFill>
                  <a:srgbClr val="000000"/>
                </a:solidFill>
                <a:latin typeface="Franklin Gothic Book"/>
              </a:rPr>
              <a:t>Trust me. Leadership development never happens accidentally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brxbxp66012"/>
          <p:cNvPicPr/>
          <p:nvPr/>
        </p:nvPicPr>
        <p:blipFill>
          <a:blip r:embed="rId1"/>
          <a:stretch/>
        </p:blipFill>
        <p:spPr>
          <a:xfrm>
            <a:off x="304920" y="272880"/>
            <a:ext cx="4163760" cy="6264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8" name="Rectangle 1"/>
          <p:cNvSpPr/>
          <p:nvPr/>
        </p:nvSpPr>
        <p:spPr>
          <a:xfrm>
            <a:off x="304920" y="272880"/>
            <a:ext cx="8526240" cy="6264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03640" y="1628640"/>
            <a:ext cx="533880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Franklin Gothic Book"/>
              </a:rPr>
              <a:t>What helped you develop as a leader?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10" name="Picture 3" descr="j0401828.jpg"/>
          <p:cNvPicPr/>
          <p:nvPr/>
        </p:nvPicPr>
        <p:blipFill>
          <a:blip r:embed="rId1"/>
          <a:srcRect l="8646" t="0" r="34688" b="0"/>
          <a:stretch/>
        </p:blipFill>
        <p:spPr>
          <a:xfrm>
            <a:off x="324000" y="311040"/>
            <a:ext cx="2355840" cy="623592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1265400" y="2637000"/>
            <a:ext cx="66610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Training for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Line managers as leadership men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The chance to 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Education for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A strategy for leadership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5586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ranklin Gothic Book"/>
              </a:rPr>
              <a:t>The chief execu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0000" y="566280"/>
            <a:ext cx="504036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HOW TO GROW LEADERS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214" name="Picture 4" descr="0749443634"/>
          <p:cNvPicPr/>
          <p:nvPr/>
        </p:nvPicPr>
        <p:blipFill>
          <a:blip r:embed="rId1"/>
          <a:stretch/>
        </p:blipFill>
        <p:spPr>
          <a:xfrm>
            <a:off x="6659640" y="1125360"/>
            <a:ext cx="1515960" cy="2337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4"/>
          <p:cNvSpPr/>
          <p:nvPr/>
        </p:nvSpPr>
        <p:spPr>
          <a:xfrm>
            <a:off x="0" y="0"/>
            <a:ext cx="1258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6400" y="206280"/>
            <a:ext cx="68691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HOW LEADERS LEARN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47280" y="1098360"/>
            <a:ext cx="75963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Responsibilities - </a:t>
            </a: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Job assignment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rning on the job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Relationships – </a:t>
            </a: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Models, mentors, peer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rning from other peopl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haping experiences - </a:t>
            </a: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Unique experiences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rning from evaluated experienc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Education - </a:t>
            </a:r>
            <a:r>
              <a:rPr b="0" lang="en-GB" sz="2800" spc="-1" strike="noStrike">
                <a:solidFill>
                  <a:srgbClr val="f36c23"/>
                </a:solidFill>
                <a:latin typeface="Franklin Gothic Book"/>
                <a:ea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Teaching / training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arning formally, semi-formally, informal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Oval 6"/>
          <p:cNvSpPr/>
          <p:nvPr/>
        </p:nvSpPr>
        <p:spPr>
          <a:xfrm>
            <a:off x="8416800" y="333360"/>
            <a:ext cx="117180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7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2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7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2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95640" y="930240"/>
            <a:ext cx="6229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WORKING WITH </a:t>
            </a:r>
            <a:br>
              <a:rPr sz="4400"/>
            </a:b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VOLUNTEERS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95280" y="2660760"/>
            <a:ext cx="51735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What issues do we face when working with volunteers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How should we address them?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22" name="Picture 3" descr="j0401828.jpg"/>
          <p:cNvPicPr/>
          <p:nvPr/>
        </p:nvPicPr>
        <p:blipFill>
          <a:blip r:embed="rId1"/>
          <a:srcRect l="8646" t="0" r="34688" b="0"/>
          <a:stretch/>
        </p:blipFill>
        <p:spPr>
          <a:xfrm>
            <a:off x="324000" y="311040"/>
            <a:ext cx="2355840" cy="62359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324000" y="311040"/>
            <a:ext cx="8424720" cy="623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1052280"/>
            <a:ext cx="7543800" cy="31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36c23"/>
                </a:solidFill>
                <a:latin typeface="Franklin Gothic Medium"/>
              </a:rPr>
              <a:t>SESSION 6</a:t>
            </a:r>
            <a:r>
              <a:rPr b="0" lang="en-GB" sz="5400" spc="-1" strike="noStrike">
                <a:solidFill>
                  <a:srgbClr val="f36c23"/>
                </a:solidFill>
                <a:latin typeface="Franklin Gothic Medium"/>
              </a:rPr>
              <a:t> </a:t>
            </a:r>
            <a:br>
              <a:rPr sz="5400"/>
            </a:br>
            <a:r>
              <a:rPr b="0" lang="en-GB" sz="7200" spc="-1" strike="noStrike">
                <a:solidFill>
                  <a:srgbClr val="000000"/>
                </a:solidFill>
                <a:latin typeface="Franklin Gothic Medium"/>
              </a:rPr>
              <a:t>DEVELOPING LEADERS</a:t>
            </a:r>
            <a:endParaRPr b="0" lang="en-US" sz="7200" spc="-1" strike="noStrike">
              <a:solidFill>
                <a:srgbClr val="005586"/>
              </a:solidFill>
              <a:latin typeface="Franklin Gothic Medium"/>
            </a:endParaRPr>
          </a:p>
        </p:txBody>
      </p:sp>
      <p:pic>
        <p:nvPicPr>
          <p:cNvPr id="100" name="Picture 13" descr="Hoop_green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52600" cy="1906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oop_orange.jpg"/>
          <p:cNvPicPr/>
          <p:nvPr/>
        </p:nvPicPr>
        <p:blipFill>
          <a:blip r:embed="rId2"/>
          <a:stretch/>
        </p:blipFill>
        <p:spPr>
          <a:xfrm>
            <a:off x="6300720" y="4780080"/>
            <a:ext cx="2422440" cy="1733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761760"/>
            <a:ext cx="6400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HEALTHY CHURCHES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Empowering leadership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Gift-oriented lay ministry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Passionate spirituality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Functional structure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16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Inspiring service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Holistic small group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Loving relationship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Need-oriented evangelism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Oval 5"/>
          <p:cNvSpPr/>
          <p:nvPr/>
        </p:nvSpPr>
        <p:spPr>
          <a:xfrm>
            <a:off x="228600" y="1773360"/>
            <a:ext cx="4343400" cy="1079280"/>
          </a:xfrm>
          <a:prstGeom prst="ellipse">
            <a:avLst/>
          </a:prstGeom>
          <a:noFill/>
          <a:ln w="28440">
            <a:solidFill>
              <a:srgbClr val="f36c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1547640" y="1268280"/>
            <a:ext cx="550260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eaders are needed at all levels.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586"/>
                </a:solidFill>
                <a:latin typeface="Franklin Gothic Book"/>
              </a:rPr>
              <a:t>Peter Brier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The secret of business success is excellence of leadership at all three levels.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5586"/>
                </a:solidFill>
                <a:latin typeface="Franklin Gothic Book"/>
              </a:rPr>
              <a:t>John Ad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Oval 3"/>
          <p:cNvSpPr/>
          <p:nvPr/>
        </p:nvSpPr>
        <p:spPr>
          <a:xfrm>
            <a:off x="-541440" y="5602320"/>
            <a:ext cx="1573200" cy="1558800"/>
          </a:xfrm>
          <a:prstGeom prst="ellipse">
            <a:avLst/>
          </a:prstGeom>
          <a:solidFill>
            <a:srgbClr val="f0b32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Oval 4"/>
          <p:cNvSpPr/>
          <p:nvPr/>
        </p:nvSpPr>
        <p:spPr>
          <a:xfrm>
            <a:off x="8416800" y="333360"/>
            <a:ext cx="1171800" cy="1185840"/>
          </a:xfrm>
          <a:prstGeom prst="ellipse">
            <a:avLst/>
          </a:prstGeom>
          <a:solidFill>
            <a:srgbClr val="005587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99640" y="692280"/>
            <a:ext cx="763452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LEADERSHIP AT EVERY LEVEL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971640" y="2565360"/>
            <a:ext cx="62118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96720" indent="-396720">
              <a:lnSpc>
                <a:spcPct val="110000"/>
              </a:lnSpc>
              <a:buClr>
                <a:srgbClr val="005586"/>
              </a:buClr>
              <a:buFont typeface="Arial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Overall/strateg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10000"/>
              </a:lnSpc>
              <a:buClr>
                <a:srgbClr val="005586"/>
              </a:buClr>
              <a:buFont typeface="Arial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Area/opera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6720" indent="-396720">
              <a:lnSpc>
                <a:spcPct val="110000"/>
              </a:lnSpc>
              <a:buClr>
                <a:srgbClr val="005586"/>
              </a:buClr>
              <a:buFont typeface="Arial"/>
              <a:buChar char="•"/>
              <a:tabLst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Small group/t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j0315560"/>
          <p:cNvPicPr/>
          <p:nvPr/>
        </p:nvPicPr>
        <p:blipFill>
          <a:blip r:embed="rId1"/>
          <a:stretch/>
        </p:blipFill>
        <p:spPr>
          <a:xfrm>
            <a:off x="5076720" y="2351160"/>
            <a:ext cx="2971800" cy="212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 thruBlk="true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116000" cy="6858000"/>
          </a:xfrm>
          <a:prstGeom prst="rect">
            <a:avLst/>
          </a:prstGeom>
          <a:solidFill>
            <a:srgbClr val="00558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I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D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E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N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T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I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F</a:t>
            </a:r>
            <a:br>
              <a:rPr sz="5400"/>
            </a:br>
            <a:r>
              <a:rPr b="0" lang="en-GB" sz="5400" spc="-1" strike="noStrike">
                <a:solidFill>
                  <a:srgbClr val="ffffff"/>
                </a:solidFill>
                <a:latin typeface="Franklin Gothic Medium"/>
              </a:rPr>
              <a:t>Y</a:t>
            </a:r>
            <a:endParaRPr b="0" lang="en-US" sz="5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83920" y="2924280"/>
            <a:ext cx="7335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isten to God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isten for humility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isten for faith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isten for gratitude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Listen for servant-heartedness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36" name="Object 4"/>
          <p:cNvGraphicFramePr/>
          <p:nvPr/>
        </p:nvGraphicFramePr>
        <p:xfrm>
          <a:off x="2908440" y="1112760"/>
          <a:ext cx="10015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8440" y="1112760"/>
                    <a:ext cx="1001520" cy="15242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38" name="Picture 5" descr="Image4"/>
          <p:cNvPicPr/>
          <p:nvPr/>
        </p:nvPicPr>
        <p:blipFill>
          <a:blip r:embed="rId3"/>
          <a:stretch/>
        </p:blipFill>
        <p:spPr>
          <a:xfrm>
            <a:off x="1612800" y="1112760"/>
            <a:ext cx="1100160" cy="152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9" name="Picture 6" descr="Image12"/>
          <p:cNvPicPr/>
          <p:nvPr/>
        </p:nvPicPr>
        <p:blipFill>
          <a:blip r:embed="rId4"/>
          <a:stretch/>
        </p:blipFill>
        <p:spPr>
          <a:xfrm>
            <a:off x="4127400" y="1112760"/>
            <a:ext cx="1476360" cy="152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0" name="Picture 7" descr="Image16"/>
          <p:cNvPicPr/>
          <p:nvPr/>
        </p:nvPicPr>
        <p:blipFill>
          <a:blip r:embed="rId5"/>
          <a:stretch/>
        </p:blipFill>
        <p:spPr>
          <a:xfrm>
            <a:off x="5803920" y="1112760"/>
            <a:ext cx="1133280" cy="15242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41" name="Text Box 9"/>
          <p:cNvSpPr/>
          <p:nvPr/>
        </p:nvSpPr>
        <p:spPr>
          <a:xfrm>
            <a:off x="9901080" y="5516640"/>
            <a:ext cx="68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1820880" y="1341360"/>
            <a:ext cx="4648320" cy="35816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eb6d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3137040" y="3132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63640" y="507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4565520" y="5070600"/>
            <a:ext cx="218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2916360" y="80820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5586"/>
                </a:solidFill>
                <a:latin typeface="Franklin Gothic Medium"/>
              </a:rPr>
              <a:t>COMPET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7"/>
          <p:cNvSpPr/>
          <p:nvPr/>
        </p:nvSpPr>
        <p:spPr>
          <a:xfrm flipH="1">
            <a:off x="2773080" y="3894120"/>
            <a:ext cx="685800" cy="533520"/>
          </a:xfrm>
          <a:prstGeom prst="line">
            <a:avLst/>
          </a:prstGeom>
          <a:ln w="38160">
            <a:solidFill>
              <a:srgbClr val="0055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8"/>
          <p:cNvSpPr/>
          <p:nvPr/>
        </p:nvSpPr>
        <p:spPr>
          <a:xfrm>
            <a:off x="4757040" y="3906360"/>
            <a:ext cx="644760" cy="582120"/>
          </a:xfrm>
          <a:prstGeom prst="line">
            <a:avLst/>
          </a:prstGeom>
          <a:ln w="38160">
            <a:solidFill>
              <a:srgbClr val="0055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9"/>
          <p:cNvSpPr/>
          <p:nvPr/>
        </p:nvSpPr>
        <p:spPr>
          <a:xfrm flipV="1">
            <a:off x="4145040" y="1973520"/>
            <a:ext cx="0" cy="868680"/>
          </a:xfrm>
          <a:prstGeom prst="line">
            <a:avLst/>
          </a:prstGeom>
          <a:ln w="38160">
            <a:solidFill>
              <a:srgbClr val="00558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C:\Users\jamesl\Pictures\Microsoft Clip Organizer\00398869.jpg"/>
          <p:cNvPicPr/>
          <p:nvPr/>
        </p:nvPicPr>
        <p:blipFill>
          <a:blip r:embed="rId1"/>
          <a:srcRect l="14629" t="4724" r="32503" b="5504"/>
          <a:stretch/>
        </p:blipFill>
        <p:spPr>
          <a:xfrm>
            <a:off x="6443640" y="3586320"/>
            <a:ext cx="2700360" cy="32716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5698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5586"/>
                </a:solidFill>
                <a:latin typeface="Franklin Gothic Medium"/>
              </a:rPr>
              <a:t>AIMS</a:t>
            </a:r>
            <a:endParaRPr b="0" lang="en-US" sz="48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65660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-353880">
              <a:spcAft>
                <a:spcPts val="700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appreciate that growing leaders is an important aspect of leadership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Aft>
                <a:spcPts val="700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consider how Jesus identified and developed leader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53880" indent="-353880">
              <a:spcAft>
                <a:spcPts val="700"/>
              </a:spcAft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To encourage participants prayerfully to choose someone to develop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Ventures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391520" y="601560"/>
            <a:ext cx="1495440" cy="1463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Discussion"/>
          <p:cNvPicPr/>
          <p:nvPr/>
        </p:nvPicPr>
        <p:blipFill>
          <a:blip r:embed="rId2"/>
          <a:srcRect l="0" t="0" r="0" b="-1485"/>
          <a:stretch/>
        </p:blipFill>
        <p:spPr>
          <a:xfrm>
            <a:off x="4648320" y="4648320"/>
            <a:ext cx="1828800" cy="1904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KidsStudy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0" y="3733920"/>
            <a:ext cx="1808280" cy="1807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TrainingY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4191120" y="762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youth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1905120" y="5335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oldCouple"/>
          <p:cNvPicPr/>
          <p:nvPr/>
        </p:nvPicPr>
        <p:blipFill>
          <a:blip r:embed="rId6">
            <a:lum bright="12000"/>
          </a:blip>
          <a:stretch/>
        </p:blipFill>
        <p:spPr>
          <a:xfrm>
            <a:off x="457200" y="2057400"/>
            <a:ext cx="1765440" cy="1765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OC-manIBM"/>
          <p:cNvPicPr/>
          <p:nvPr/>
        </p:nvPicPr>
        <p:blipFill>
          <a:blip r:embed="rId7">
            <a:lum bright="12000"/>
          </a:blip>
          <a:stretch/>
        </p:blipFill>
        <p:spPr>
          <a:xfrm>
            <a:off x="3352680" y="3657600"/>
            <a:ext cx="1609920" cy="1676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OC-Conference"/>
          <p:cNvPicPr/>
          <p:nvPr/>
        </p:nvPicPr>
        <p:blipFill>
          <a:blip r:embed="rId8">
            <a:lum bright="12000"/>
          </a:blip>
          <a:stretch/>
        </p:blipFill>
        <p:spPr>
          <a:xfrm>
            <a:off x="2209680" y="25909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nagari"/>
          <p:cNvPicPr/>
          <p:nvPr/>
        </p:nvPicPr>
        <p:blipFill>
          <a:blip r:embed="rId9"/>
          <a:stretch/>
        </p:blipFill>
        <p:spPr>
          <a:xfrm>
            <a:off x="1828800" y="4343400"/>
            <a:ext cx="1698480" cy="2146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Ian Parkinson 2"/>
          <p:cNvPicPr/>
          <p:nvPr/>
        </p:nvPicPr>
        <p:blipFill>
          <a:blip r:embed="rId10"/>
          <a:stretch/>
        </p:blipFill>
        <p:spPr>
          <a:xfrm>
            <a:off x="5638680" y="3429000"/>
            <a:ext cx="1791000" cy="16128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" descr="weights"/>
          <p:cNvPicPr/>
          <p:nvPr/>
        </p:nvPicPr>
        <p:blipFill>
          <a:blip r:embed="rId11"/>
          <a:stretch/>
        </p:blipFill>
        <p:spPr>
          <a:xfrm>
            <a:off x="0" y="228600"/>
            <a:ext cx="1779480" cy="2039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choi"/>
          <p:cNvPicPr/>
          <p:nvPr/>
        </p:nvPicPr>
        <p:blipFill>
          <a:blip r:embed="rId12"/>
          <a:stretch/>
        </p:blipFill>
        <p:spPr>
          <a:xfrm>
            <a:off x="7315200" y="5105520"/>
            <a:ext cx="1371600" cy="1366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5" descr="seaside"/>
          <p:cNvPicPr/>
          <p:nvPr/>
        </p:nvPicPr>
        <p:blipFill>
          <a:blip r:embed="rId13"/>
          <a:stretch/>
        </p:blipFill>
        <p:spPr>
          <a:xfrm>
            <a:off x="228600" y="5261040"/>
            <a:ext cx="1373040" cy="1596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6" descr="j0316864"/>
          <p:cNvPicPr/>
          <p:nvPr/>
        </p:nvPicPr>
        <p:blipFill>
          <a:blip r:embed="rId14"/>
          <a:stretch/>
        </p:blipFill>
        <p:spPr>
          <a:xfrm>
            <a:off x="6629400" y="1892160"/>
            <a:ext cx="2209680" cy="15368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7" descr="break"/>
          <p:cNvPicPr/>
          <p:nvPr/>
        </p:nvPicPr>
        <p:blipFill>
          <a:blip r:embed="rId15"/>
          <a:stretch/>
        </p:blipFill>
        <p:spPr>
          <a:xfrm>
            <a:off x="7270920" y="3733920"/>
            <a:ext cx="1873080" cy="1468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9" descr="Youth1"/>
          <p:cNvPicPr/>
          <p:nvPr/>
        </p:nvPicPr>
        <p:blipFill>
          <a:blip r:embed="rId16">
            <a:lum bright="18000"/>
          </a:blip>
          <a:stretch/>
        </p:blipFill>
        <p:spPr>
          <a:xfrm>
            <a:off x="4572000" y="2209680"/>
            <a:ext cx="1806480" cy="18068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44160" y="83808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TWO PRINCIPLES</a:t>
            </a: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83760" y="1808280"/>
            <a:ext cx="5232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Everyone can develop leaders through affirmation and encouragemen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55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Franklin Gothic Book"/>
              </a:rPr>
              <a:t>For the sake of many invest in a few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32" name="Picture 6" descr="Girl black.jpg"/>
          <p:cNvPicPr/>
          <p:nvPr/>
        </p:nvPicPr>
        <p:blipFill>
          <a:blip r:embed="rId1"/>
          <a:stretch/>
        </p:blipFill>
        <p:spPr>
          <a:xfrm>
            <a:off x="6280200" y="2133720"/>
            <a:ext cx="3151080" cy="4724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1116000" y="1800360"/>
            <a:ext cx="72010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Jesus grew </a:t>
            </a:r>
            <a:br>
              <a:rPr sz="4400"/>
            </a:br>
            <a:r>
              <a:rPr b="0" lang="en-GB" sz="4400" spc="-1" strike="noStrike">
                <a:solidFill>
                  <a:srgbClr val="005586"/>
                </a:solidFill>
                <a:latin typeface="Franklin Gothic Medium"/>
              </a:rPr>
              <a:t>l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116000" y="4467240"/>
            <a:ext cx="645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Franklin Gothic Book"/>
              </a:rPr>
              <a:t>Look at Mark 3:13-19 and identify how Jesus chose his disciples. What can we learn from his approac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1047600"/>
          </a:xfrm>
          <a:prstGeom prst="rect">
            <a:avLst/>
          </a:prstGeom>
          <a:solidFill>
            <a:srgbClr val="00558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Franklin Gothic Medium"/>
              </a:rPr>
              <a:t>STAGE 1 – IDENTIF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9" descr="C:\Users\jamesl\AppData\Local\Microsoft\Windows\Temporary Internet Files\Content.IE5\5DPS72JC\MP900384794[1].jpg"/>
          <p:cNvPicPr/>
          <p:nvPr/>
        </p:nvPicPr>
        <p:blipFill>
          <a:blip r:embed="rId1"/>
          <a:stretch/>
        </p:blipFill>
        <p:spPr>
          <a:xfrm>
            <a:off x="4716360" y="1484280"/>
            <a:ext cx="3343320" cy="267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86920" y="765000"/>
            <a:ext cx="6782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586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6920" y="1908000"/>
            <a:ext cx="678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139" name="Picture 7" descr="sweets"/>
          <p:cNvPicPr/>
          <p:nvPr/>
        </p:nvPicPr>
        <p:blipFill>
          <a:blip r:embed="rId1"/>
          <a:srcRect l="6250" t="0" r="6250" b="0"/>
          <a:stretch/>
        </p:blipFill>
        <p:spPr>
          <a:xfrm>
            <a:off x="393840" y="304920"/>
            <a:ext cx="8331120" cy="624816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6796080" y="1017720"/>
            <a:ext cx="12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"/>
          <p:cNvSpPr/>
          <p:nvPr/>
        </p:nvSpPr>
        <p:spPr>
          <a:xfrm rot="18598200">
            <a:off x="6153120" y="4513320"/>
            <a:ext cx="180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S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 rot="2573400">
            <a:off x="1299960" y="1499760"/>
            <a:ext cx="24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O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0:28:29Z</dcterms:created>
  <dc:creator>setup1-01</dc:creator>
  <dc:description/>
  <dc:language>en-US</dc:language>
  <cp:lastModifiedBy>James Lawrence</cp:lastModifiedBy>
  <dcterms:modified xsi:type="dcterms:W3CDTF">2018-08-03T11:39:09Z</dcterms:modified>
  <cp:revision>99</cp:revision>
  <dc:subject/>
  <dc:title>PowerPoint Presentation</dc:title>
</cp:coreProperties>
</file>