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B4E8-9495-4D9A-8E25-170B3C7F9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9C75-52DF-41C1-8DA1-41974EE2C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1050-A73C-4A45-9632-0D76F93D2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6A3D-5216-4DB2-853B-5977F06CA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1D285-8C0A-42C3-AD3A-2C8C5ACCC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CC68E-FC96-4A47-9179-D0F27D600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83405-62DD-4293-B24D-BCDEF069E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5BA81-88F3-4DBA-9810-E7F11C9CF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53328-DE34-47FC-ABAA-ACA87E5D1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33DC7-BE22-4E62-A09B-9CABAB39A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634C6-E735-4DA9-8A2D-A358E09E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8834-A1CD-43CF-95B2-612C855A0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A2015-D4BB-4C76-B188-9E7702E9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AAFF0-58D4-4247-9397-E4A6C1A6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1DE89-A7D4-44D5-810F-47E3BF523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F609F-2334-4005-9D34-60113F692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3F460-37E2-47A0-833A-9FCFDC400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ACE4-7002-4715-82E6-82369C2BF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1172-9EB7-4BF2-BAEA-A765F79B5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0574-6E11-4A7A-8840-D3E7AA20C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27E5-FE2F-4A3D-B7AC-33CE9DE6E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D1E4-0E51-4957-8E71-FAAAEF5E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AF63-AA2E-4836-8319-BB8C59B7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CF93-FC77-4DF6-BF1E-A24BB990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62CE7-3411-4178-9893-2FF05508E72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22865-7FB2-44F7-BC0B-BE52E6F61471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j017849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2"/>
          <p:cNvSpPr/>
          <p:nvPr/>
        </p:nvSpPr>
        <p:spPr>
          <a:xfrm>
            <a:off x="457200" y="457200"/>
            <a:ext cx="8381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Kristen ITC"/>
              </a:rPr>
              <a:t>Psalm 139</a:t>
            </a:r>
            <a:r>
              <a:rPr b="0" lang="en-GB" sz="5400" spc="-1" strike="noStrike">
                <a:solidFill>
                  <a:srgbClr val="000000"/>
                </a:solidFill>
                <a:latin typeface="Benguiat Bk BT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j0182763"/>
          <p:cNvPicPr/>
          <p:nvPr/>
        </p:nvPicPr>
        <p:blipFill>
          <a:blip r:embed="rId1"/>
          <a:srcRect l="10837" t="5398" r="0" b="0"/>
          <a:stretch/>
        </p:blipFill>
        <p:spPr>
          <a:xfrm>
            <a:off x="0" y="-457200"/>
            <a:ext cx="9372600" cy="768348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4"/>
          <p:cNvSpPr/>
          <p:nvPr/>
        </p:nvSpPr>
        <p:spPr>
          <a:xfrm>
            <a:off x="5638680" y="1066680"/>
            <a:ext cx="35053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Kristen ITC"/>
              </a:rPr>
              <a:t>Where could I get away from your presence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j0178717"/>
          <p:cNvPicPr/>
          <p:nvPr/>
        </p:nvPicPr>
        <p:blipFill>
          <a:blip r:embed="rId1"/>
          <a:stretch/>
        </p:blipFill>
        <p:spPr>
          <a:xfrm>
            <a:off x="0" y="0"/>
            <a:ext cx="9144000" cy="72072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304920" y="2133720"/>
            <a:ext cx="8534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Kristen ITC"/>
              </a:rPr>
              <a:t>If I went up to heaven, you would be there;</a:t>
            </a:r>
            <a:r>
              <a:rPr b="1" lang="en-GB" sz="5400" spc="-1" strike="noStrike">
                <a:solidFill>
                  <a:srgbClr val="000000"/>
                </a:solidFill>
                <a:latin typeface="Futura Lt BT"/>
              </a:rPr>
              <a:t>                     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PH01381J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4"/>
          <p:cNvSpPr/>
          <p:nvPr/>
        </p:nvSpPr>
        <p:spPr>
          <a:xfrm>
            <a:off x="152280" y="4038480"/>
            <a:ext cx="8991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Kristen ITC"/>
              </a:rPr>
              <a:t>if I lay down                                          in the world of the dead,                             you would be there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j0149069"/>
          <p:cNvPicPr/>
          <p:nvPr/>
        </p:nvPicPr>
        <p:blipFill>
          <a:blip r:embed="rId1"/>
          <a:srcRect l="0" t="7776" r="5837" b="0"/>
          <a:stretch/>
        </p:blipFill>
        <p:spPr>
          <a:xfrm>
            <a:off x="0" y="-82440"/>
            <a:ext cx="9144000" cy="6940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2"/>
          <p:cNvSpPr/>
          <p:nvPr/>
        </p:nvSpPr>
        <p:spPr>
          <a:xfrm>
            <a:off x="533520" y="4876920"/>
            <a:ext cx="838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Kristen ITC"/>
              </a:rPr>
              <a:t>If I flew away beyond the eas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028" descr="j017997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026"/>
          <p:cNvSpPr/>
          <p:nvPr/>
        </p:nvSpPr>
        <p:spPr>
          <a:xfrm>
            <a:off x="457200" y="4724280"/>
            <a:ext cx="838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Kristen ITC"/>
              </a:rPr>
              <a:t>or lived in the farthest place in the west,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j01789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2"/>
          <p:cNvSpPr/>
          <p:nvPr/>
        </p:nvSpPr>
        <p:spPr>
          <a:xfrm>
            <a:off x="152280" y="304920"/>
            <a:ext cx="655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Kristen ITC"/>
              </a:rPr>
              <a:t>you would be there to lead me,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2987640" y="4843440"/>
            <a:ext cx="6019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Kristen ITC"/>
              </a:rPr>
              <a:t>you would be there to help me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026" descr="j0178832"/>
          <p:cNvPicPr/>
          <p:nvPr/>
        </p:nvPicPr>
        <p:blipFill>
          <a:blip r:embed="rId1"/>
          <a:srcRect l="11663" t="0" r="0" b="111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028"/>
          <p:cNvSpPr/>
          <p:nvPr/>
        </p:nvSpPr>
        <p:spPr>
          <a:xfrm>
            <a:off x="6095880" y="533520"/>
            <a:ext cx="28195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Kristen ITC"/>
              </a:rPr>
              <a:t>You created every part     of    me;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026" descr="j0178832"/>
          <p:cNvPicPr/>
          <p:nvPr/>
        </p:nvPicPr>
        <p:blipFill>
          <a:blip r:embed="rId1"/>
          <a:srcRect l="11663" t="0" r="0" b="111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027"/>
          <p:cNvSpPr/>
          <p:nvPr/>
        </p:nvSpPr>
        <p:spPr>
          <a:xfrm>
            <a:off x="5791320" y="609480"/>
            <a:ext cx="3124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Kristen ITC"/>
              </a:rPr>
              <a:t>you put me together in my mother’s womb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" descr="j017735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2"/>
          <p:cNvSpPr/>
          <p:nvPr/>
        </p:nvSpPr>
        <p:spPr>
          <a:xfrm>
            <a:off x="457200" y="762120"/>
            <a:ext cx="3048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Kristen ITC"/>
              </a:rPr>
              <a:t>I praise you because you are to be feared;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j017735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3"/>
          <p:cNvSpPr/>
          <p:nvPr/>
        </p:nvSpPr>
        <p:spPr>
          <a:xfrm>
            <a:off x="395280" y="2205000"/>
            <a:ext cx="4191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Kristen ITC"/>
              </a:rPr>
              <a:t>all you do is strange and wonderful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6" descr="j0262706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2"/>
          <p:cNvSpPr/>
          <p:nvPr/>
        </p:nvSpPr>
        <p:spPr>
          <a:xfrm>
            <a:off x="304920" y="838080"/>
            <a:ext cx="38862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Kristen ITC"/>
              </a:rPr>
              <a:t>Lord, you have examined me and you know me</a:t>
            </a:r>
            <a:r>
              <a:rPr b="0" lang="en-GB" sz="5400" spc="-1" strike="noStrike">
                <a:solidFill>
                  <a:srgbClr val="ffffff"/>
                </a:solidFill>
                <a:latin typeface="Bradley Hand ITC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j017735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4"/>
          <p:cNvSpPr/>
          <p:nvPr/>
        </p:nvSpPr>
        <p:spPr>
          <a:xfrm>
            <a:off x="826920" y="1844640"/>
            <a:ext cx="2667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Kristen ITC"/>
              </a:rPr>
              <a:t>I know it with all my heart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10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4100" descr="PH03143I"/>
          <p:cNvPicPr/>
          <p:nvPr/>
        </p:nvPicPr>
        <p:blipFill>
          <a:blip r:embed="rId1"/>
          <a:stretch/>
        </p:blipFill>
        <p:spPr>
          <a:xfrm>
            <a:off x="0" y="0"/>
            <a:ext cx="4962600" cy="70866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4098"/>
          <p:cNvSpPr/>
          <p:nvPr/>
        </p:nvSpPr>
        <p:spPr>
          <a:xfrm>
            <a:off x="4114800" y="380880"/>
            <a:ext cx="48769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Kristen ITC"/>
              </a:rPr>
              <a:t>When my bones were being formed, carefully put together in my mother’s womb,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j0178523"/>
          <p:cNvPicPr/>
          <p:nvPr/>
        </p:nvPicPr>
        <p:blipFill>
          <a:blip r:embed="rId1"/>
          <a:stretch/>
        </p:blipFill>
        <p:spPr>
          <a:xfrm>
            <a:off x="0" y="-50760"/>
            <a:ext cx="9144000" cy="690876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2"/>
          <p:cNvSpPr/>
          <p:nvPr/>
        </p:nvSpPr>
        <p:spPr>
          <a:xfrm>
            <a:off x="0" y="304920"/>
            <a:ext cx="8991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Kristen ITC"/>
              </a:rPr>
              <a:t>when I was growing there in secret, you knew I was there – you saw</a:t>
            </a:r>
            <a:r>
              <a:rPr b="1" lang="en-GB" sz="5400" spc="-1" strike="noStrike">
                <a:solidFill>
                  <a:srgbClr val="000000"/>
                </a:solidFill>
                <a:latin typeface="Futura Lt BT"/>
              </a:rPr>
              <a:t>                                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5435640" y="2971800"/>
            <a:ext cx="355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Kristen ITC"/>
              </a:rPr>
              <a:t>me before I was born</a:t>
            </a:r>
            <a:r>
              <a:rPr b="1" lang="en-GB" sz="5400" spc="-1" strike="noStrike">
                <a:solidFill>
                  <a:srgbClr val="000000"/>
                </a:solidFill>
                <a:latin typeface="Tempus Sans ITC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3" descr="PH01557J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2"/>
          <p:cNvSpPr/>
          <p:nvPr/>
        </p:nvSpPr>
        <p:spPr>
          <a:xfrm>
            <a:off x="5638680" y="609480"/>
            <a:ext cx="32004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Kristen ITC"/>
              </a:rPr>
              <a:t>Examine me,        O God and know my mind;</a:t>
            </a:r>
            <a:r>
              <a:rPr b="1" lang="en-GB" sz="6000" spc="-1" strike="noStrike">
                <a:solidFill>
                  <a:srgbClr val="ffffff"/>
                </a:solidFill>
                <a:latin typeface="Futura Lt BT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PH01557J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3"/>
          <p:cNvSpPr/>
          <p:nvPr/>
        </p:nvSpPr>
        <p:spPr>
          <a:xfrm>
            <a:off x="5334120" y="914400"/>
            <a:ext cx="3581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Kristen ITC"/>
              </a:rPr>
              <a:t>test me, and discover my thoughts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PH01557J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4"/>
          <p:cNvSpPr/>
          <p:nvPr/>
        </p:nvSpPr>
        <p:spPr>
          <a:xfrm>
            <a:off x="5943600" y="533520"/>
            <a:ext cx="2819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Kristen ITC"/>
              </a:rPr>
              <a:t>  </a:t>
            </a:r>
            <a:r>
              <a:rPr b="0" lang="en-GB" sz="5400" spc="-1" strike="noStrike">
                <a:solidFill>
                  <a:srgbClr val="ffffff"/>
                </a:solidFill>
                <a:latin typeface="Kristen ITC"/>
              </a:rPr>
              <a:t>Find out if there is any evil in m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7" descr="j0178537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2"/>
          <p:cNvSpPr/>
          <p:nvPr/>
        </p:nvSpPr>
        <p:spPr>
          <a:xfrm>
            <a:off x="5029200" y="762120"/>
            <a:ext cx="4114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Kristen ITC"/>
              </a:rPr>
              <a:t>and guide me in the everlasting way</a:t>
            </a:r>
            <a:r>
              <a:rPr b="1" lang="en-GB" sz="5400" spc="-1" strike="noStrike">
                <a:solidFill>
                  <a:srgbClr val="ffffff"/>
                </a:solidFill>
                <a:latin typeface="Tempus Sans ITC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2"/>
          <p:cNvSpPr/>
          <p:nvPr/>
        </p:nvSpPr>
        <p:spPr>
          <a:xfrm>
            <a:off x="228600" y="1676520"/>
            <a:ext cx="4038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Kristen ITC"/>
              </a:rPr>
              <a:t>You know everything         I do;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Picture 5" descr="PH01973J"/>
          <p:cNvPicPr/>
          <p:nvPr/>
        </p:nvPicPr>
        <p:blipFill>
          <a:blip r:embed="rId1"/>
          <a:srcRect l="0" t="3333" r="0" b="4449"/>
          <a:stretch/>
        </p:blipFill>
        <p:spPr>
          <a:xfrm>
            <a:off x="4129200" y="0"/>
            <a:ext cx="5014800" cy="7010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Picture 4" descr="PH01973J"/>
          <p:cNvPicPr/>
          <p:nvPr/>
        </p:nvPicPr>
        <p:blipFill>
          <a:blip r:embed="rId1"/>
          <a:srcRect l="0" t="3333" r="0" b="4449"/>
          <a:stretch/>
        </p:blipFill>
        <p:spPr>
          <a:xfrm>
            <a:off x="4129200" y="762120"/>
            <a:ext cx="5014800" cy="70102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-152280" y="762120"/>
            <a:ext cx="51814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Kristen ITC"/>
              </a:rPr>
              <a:t>from far     away you understand     all my  thoughts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02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1028" descr="ph03814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029"/>
          <p:cNvSpPr/>
          <p:nvPr/>
        </p:nvSpPr>
        <p:spPr>
          <a:xfrm>
            <a:off x="609480" y="152280"/>
            <a:ext cx="472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Kristen ITC"/>
              </a:rPr>
              <a:t>You see me,</a:t>
            </a:r>
            <a:r>
              <a:rPr b="1" lang="en-GB" sz="5400" spc="-1" strike="noStrike">
                <a:solidFill>
                  <a:srgbClr val="ffffff"/>
                </a:solidFill>
                <a:latin typeface="Futura Lt BT"/>
              </a:rPr>
              <a:t>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1030"/>
          <p:cNvSpPr/>
          <p:nvPr/>
        </p:nvSpPr>
        <p:spPr>
          <a:xfrm>
            <a:off x="5105520" y="609480"/>
            <a:ext cx="38098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Kristen ITC"/>
              </a:rPr>
              <a:t>whether I am working or resting; you know all my actions.</a:t>
            </a:r>
            <a:r>
              <a:rPr b="0" lang="en-GB" sz="5400" spc="-1" strike="noStrike">
                <a:solidFill>
                  <a:srgbClr val="ffffff"/>
                </a:solidFill>
                <a:latin typeface="Futura Lt BT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6" descr="j01786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2"/>
          <p:cNvSpPr/>
          <p:nvPr/>
        </p:nvSpPr>
        <p:spPr>
          <a:xfrm>
            <a:off x="380880" y="533520"/>
            <a:ext cx="4335480" cy="54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Kristen ITC"/>
              </a:rPr>
              <a:t>Even before I speak,        you already know           what I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Kristen ITC"/>
              </a:rPr>
              <a:t>will say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PH03737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2"/>
          <p:cNvSpPr/>
          <p:nvPr/>
        </p:nvSpPr>
        <p:spPr>
          <a:xfrm>
            <a:off x="304920" y="4876920"/>
            <a:ext cx="838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Kristen ITC"/>
              </a:rPr>
              <a:t>you protect me with your power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380880" y="304920"/>
            <a:ext cx="8382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Kristen ITC"/>
              </a:rPr>
              <a:t>You are all round me   on every side;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6" descr="j0178845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2"/>
          <p:cNvSpPr/>
          <p:nvPr/>
        </p:nvSpPr>
        <p:spPr>
          <a:xfrm>
            <a:off x="0" y="49528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Kristen ITC"/>
              </a:rPr>
              <a:t>it is beyond my understanding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0" y="3049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Kristen ITC"/>
              </a:rPr>
              <a:t>Your knowledge is too deep;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j0182763"/>
          <p:cNvPicPr/>
          <p:nvPr/>
        </p:nvPicPr>
        <p:blipFill>
          <a:blip r:embed="rId1"/>
          <a:srcRect l="10837" t="5398" r="0" b="0"/>
          <a:stretch/>
        </p:blipFill>
        <p:spPr>
          <a:xfrm>
            <a:off x="0" y="-380880"/>
            <a:ext cx="9372600" cy="76834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3"/>
          <p:cNvSpPr/>
          <p:nvPr/>
        </p:nvSpPr>
        <p:spPr>
          <a:xfrm rot="1200">
            <a:off x="6247800" y="762120"/>
            <a:ext cx="2738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Kristen ITC"/>
              </a:rPr>
              <a:t>Where could I go to escape from you?</a:t>
            </a:r>
            <a:r>
              <a:rPr b="1" lang="en-GB" sz="5400" spc="-1" strike="noStrike">
                <a:solidFill>
                  <a:srgbClr val="000000"/>
                </a:solidFill>
                <a:latin typeface="Futura Lt BT"/>
              </a:rPr>
              <a:t>                        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mes Lawrence</cp:lastModifiedBy>
  <dcterms:modified xsi:type="dcterms:W3CDTF">2018-08-03T13:34:59Z</dcterms:modified>
  <cp:revision>13</cp:revision>
  <dc:subject/>
  <dc:title>PowerPoint Presentation</dc:title>
</cp:coreProperties>
</file>