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5553-6E51-4F21-BB83-7711A41C35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0BAA-24C1-4506-BDF8-0A5500281A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FB8D-640D-43F6-98E6-73C90723E9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8333-3C03-4F50-8C29-E696C91466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8CA2-F59D-4FA6-A3F1-D791C1BF01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D47-8C85-4CCC-84F0-2F68467591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2880" y="4716000"/>
            <a:ext cx="4962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F5CD-6101-4817-822A-0CDA135FED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7BED-7DB0-49A8-89D2-370281A0BD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932F-0C07-4F90-8265-CE4FBE230B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today provide some space for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ED53-7BDE-4AA9-B022-ADE339890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F693-A04B-41D4-8918-7C9835A980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9BA1-D6CD-449D-8948-B035114D2D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0939-28E0-43B6-BD06-CA2F9D70B8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EE36-4D5F-487A-813D-C0D9461656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1D4D-01DB-4FF4-ACF5-7690DCA8D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6302-F22F-4FD6-8A2F-8F40298FD1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EFAC-AB01-46A2-93BD-0F833ADB33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E96E-63CD-4F64-B73C-1D852C72CD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B305-0E67-4EAD-9003-825313E822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1769-8383-4F95-8D4D-ABD31C39E1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8E06-7E9B-4D19-BC11-E6A3520E1B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DA3-ADCB-412D-9CE7-7286E04D48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44C5-7168-4831-B363-1C5B8533B8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E31F-A17D-4D3D-8F6A-2AB11E46D9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0079-CFF0-4D60-87CA-FB6F30D89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C3FC-8B1D-421E-B19C-E3084A6199C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5480" y="365616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arathon runn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n whole new level Ranulph Fienne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.2 miles in Patagonia, Chile, Falklands, Sydney, Singapore, London, Cairo and New Y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66EE-15E0-4B6E-AD50-133B461DEC0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5480" y="365616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EA7-CC9E-4EF1-A58C-ABC7567D0EF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5480" y="365616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athon runn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whole new level Ranulph Fienn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.2 miles in Patagonia, Chile, Falklands, Sydney, Singapore, London, Cairo and New Y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212-F4A2-4C4D-AB47-AF5CD9C175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F33C-8AA7-4824-97AA-01DFF10F79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4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B18AAF95-C5E8-49C5-9B92-2FC77249831C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ession 1 Slide </a:t>
            </a:r>
            <a:fld id="{7E1B8FDC-3522-41A0-96AE-DEEDB99A5B8B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86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91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93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80044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PERSONALISE THE TRAINING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7960" y="36763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piritual gift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tyle of leadership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phere of influenc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0" name="Picture 5" descr="Sample"/>
          <p:cNvPicPr/>
          <p:nvPr/>
        </p:nvPicPr>
        <p:blipFill>
          <a:blip r:embed="rId1"/>
          <a:stretch/>
        </p:blipFill>
        <p:spPr>
          <a:xfrm>
            <a:off x="1407960" y="517680"/>
            <a:ext cx="266724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Rectangle 7"/>
          <p:cNvSpPr/>
          <p:nvPr/>
        </p:nvSpPr>
        <p:spPr>
          <a:xfrm rot="16200000">
            <a:off x="-3066840" y="2990520"/>
            <a:ext cx="6858000" cy="8766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Text Box 5"/>
          <p:cNvSpPr/>
          <p:nvPr/>
        </p:nvSpPr>
        <p:spPr>
          <a:xfrm>
            <a:off x="4284720" y="604800"/>
            <a:ext cx="44640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Franklin Gothic Book"/>
              </a:rPr>
              <a:t>Where are you now and where is God leading you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Franklin Gothic Book"/>
              </a:rPr>
              <a:t>What areas has Growing Leaders identified where you need further development in leader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Franklin Gothic Book"/>
              </a:rPr>
              <a:t>What is your next step in this area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15"/>
          <p:cNvSpPr/>
          <p:nvPr/>
        </p:nvSpPr>
        <p:spPr>
          <a:xfrm>
            <a:off x="3124080" y="3600360"/>
            <a:ext cx="2819520" cy="2819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429000" y="3886200"/>
            <a:ext cx="2209680" cy="220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85920" y="255276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KEEP STRETCHING YOURSELF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29" name="Picture 5" descr="Sample"/>
          <p:cNvPicPr/>
          <p:nvPr/>
        </p:nvPicPr>
        <p:blipFill>
          <a:blip r:embed="rId1"/>
          <a:stretch/>
        </p:blipFill>
        <p:spPr>
          <a:xfrm>
            <a:off x="1403280" y="519120"/>
            <a:ext cx="2667240" cy="19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Oval 13"/>
          <p:cNvSpPr/>
          <p:nvPr/>
        </p:nvSpPr>
        <p:spPr>
          <a:xfrm>
            <a:off x="3886200" y="4419720"/>
            <a:ext cx="1295280" cy="121896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 rot="16200000">
            <a:off x="-3112200" y="3003840"/>
            <a:ext cx="6885000" cy="87624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Aquare peg round hole.jpg"/>
          <p:cNvPicPr/>
          <p:nvPr/>
        </p:nvPicPr>
        <p:blipFill>
          <a:blip r:embed="rId1"/>
          <a:stretch/>
        </p:blipFill>
        <p:spPr>
          <a:xfrm>
            <a:off x="4371840" y="2781360"/>
            <a:ext cx="4772160" cy="3357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9023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LIKELY SCENARIO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978200"/>
            <a:ext cx="49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Round hole, square pe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Round hole, round peg … but stuck/wear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390920" y="476280"/>
            <a:ext cx="406872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at would help us to keep stretching/ progressing in an area of leadership where we’re a round peg in a round hole but have become weary/got stuck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at would help us if we were a square peg in a round hol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ere is your red zon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How do we avoid neglecting gifts we should be us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1080" y="2552760"/>
            <a:ext cx="81536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ORK OUT A RHYTHM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0" name="Picture 5" descr="Sample"/>
          <p:cNvPicPr/>
          <p:nvPr/>
        </p:nvPicPr>
        <p:blipFill>
          <a:blip r:embed="rId1"/>
          <a:stretch/>
        </p:blipFill>
        <p:spPr>
          <a:xfrm>
            <a:off x="1247760" y="45720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Rectangle 6"/>
          <p:cNvSpPr/>
          <p:nvPr/>
        </p:nvSpPr>
        <p:spPr>
          <a:xfrm rot="16200000">
            <a:off x="-3066840" y="2990520"/>
            <a:ext cx="6858000" cy="8766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The clock is my dictator, I shall not rest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It makes me lie down only when exhausted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It leads me to deep depression, it hounds my soul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It leads me in circles of frenzy for activity’s sake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Even though I run frantically from task to task,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I will never get it all done. For my ‘ideal’ is with me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Deadlines and my need for approval, they drive me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They demand performance from me, beyond the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limits of my schedule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They anoint my head with migraines, my in-tray overflows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Surely fatigue and time pressure shall follow me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all the days of my life,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And I will dwell in the bonds of frustration forever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j0315555"/>
          <p:cNvPicPr/>
          <p:nvPr/>
        </p:nvPicPr>
        <p:blipFill>
          <a:blip r:embed="rId1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j0315580"/>
          <p:cNvPicPr/>
          <p:nvPr/>
        </p:nvPicPr>
        <p:blipFill>
          <a:blip r:embed="rId2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j0315597"/>
          <p:cNvPicPr/>
          <p:nvPr/>
        </p:nvPicPr>
        <p:blipFill>
          <a:blip r:embed="rId3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j0315571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IME AS COMMODITY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IME AS ENEMY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IME AS GIFT/FRIEND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3120" y="1267920"/>
            <a:ext cx="73659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ime is a gift, because it is God’s time, not one’s own; and time is a friend, because there is nothing to fear from what God has in store. Time is “on our side”. One cannot buy time with God. One must learn to enjoy God’s time.’</a:t>
            </a:r>
            <a:endParaRPr b="0" lang="en-US" sz="32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33480" y="4868640"/>
            <a:ext cx="2768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586"/>
                </a:solidFill>
                <a:latin typeface="Franklin Gothic Book"/>
              </a:rPr>
              <a:t>Samuel Wel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6266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</a:rPr>
              <a:t>SEVEN BASIC THEOLOGICAL/ PSYCHOLOGICAL PRINCIPLES</a:t>
            </a:r>
            <a:endParaRPr b="0" lang="en-US" sz="36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2116080"/>
            <a:ext cx="67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225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God requires that we manage our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47840" indent="-447840">
              <a:spcBef>
                <a:spcPts val="1225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e will never be more effective in our ministries and our lives than our effectiveness in managing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47840" indent="-447840">
              <a:spcBef>
                <a:spcPts val="1225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e all have the same amount of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47840" indent="-447840">
              <a:spcBef>
                <a:spcPts val="1225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e must take charge of our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2560" y="1458720"/>
            <a:ext cx="676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Medium"/>
              </a:rPr>
              <a:t>REVIEW SESSION 8 </a:t>
            </a:r>
            <a:br>
              <a:rPr sz="3200"/>
            </a:b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EMBRACING COST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82200" y="288756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lossians 1:24-29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ality, cost, struggl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615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</a:rPr>
              <a:t>SEVEN BASIC THEOLOGICAL/ PSYCHOLOGICAL PRINCIPLES</a:t>
            </a:r>
            <a:endParaRPr b="0" lang="en-US" sz="36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990800"/>
            <a:ext cx="67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5586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e have all the time we need to do God’s will for our liv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5586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e are never powerless over time proble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5586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Our psychological make-up greatly influences our ability to manage tim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356000" y="1312920"/>
            <a:ext cx="403236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at is an appropriate rhythm for your life and leadership that will help you stay fresh? Think in terms of a day, week, month, term, year and seven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at is your next step in this are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5200" y="2552760"/>
            <a:ext cx="80028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KEEP CLOSE RELATIONSHIP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0920" y="3429000"/>
            <a:ext cx="6553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Go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a tea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a ment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pe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a mente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66" name="Picture 5" descr="Sample"/>
          <p:cNvPicPr/>
          <p:nvPr/>
        </p:nvPicPr>
        <p:blipFill>
          <a:blip r:embed="rId1"/>
          <a:stretch/>
        </p:blipFill>
        <p:spPr>
          <a:xfrm>
            <a:off x="1541520" y="44136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Rectangle 6"/>
          <p:cNvSpPr/>
          <p:nvPr/>
        </p:nvSpPr>
        <p:spPr>
          <a:xfrm rot="16200000">
            <a:off x="-3066840" y="2990520"/>
            <a:ext cx="6858000" cy="8766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4344840" y="1359000"/>
            <a:ext cx="4319640" cy="45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or each of the following relationships identify ideas for growth: God, team, mentor, peers, men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at is your next ste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8480" y="2770200"/>
            <a:ext cx="80550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COMPLETE THE COURS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58840" y="3646080"/>
            <a:ext cx="7734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tay focused on the finishing lin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tay faithful to gospel ministr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tay reliant on the power of the Spiri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74" name="Picture 5" descr="Sample"/>
          <p:cNvPicPr/>
          <p:nvPr/>
        </p:nvPicPr>
        <p:blipFill>
          <a:blip r:embed="rId1"/>
          <a:stretch/>
        </p:blipFill>
        <p:spPr>
          <a:xfrm>
            <a:off x="1235160" y="44136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Rectangle 6"/>
          <p:cNvSpPr/>
          <p:nvPr/>
        </p:nvSpPr>
        <p:spPr>
          <a:xfrm rot="16200000">
            <a:off x="-3066840" y="2990520"/>
            <a:ext cx="6858000" cy="8766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4284720" y="1200240"/>
            <a:ext cx="417492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at will help you to keep your focus on running the race to the e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at does it mean to run the race in the power of the Spir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at is your next ste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280" y="29098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1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ersonalise the trai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2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stretching yoursel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3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ork out a rhyth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4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close relationship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5 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the cour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4" descr="Sample"/>
          <p:cNvPicPr/>
          <p:nvPr/>
        </p:nvPicPr>
        <p:blipFill>
          <a:blip r:embed="rId1"/>
          <a:stretch/>
        </p:blipFill>
        <p:spPr>
          <a:xfrm>
            <a:off x="831960" y="62388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MPj03413220000[1]"/>
          <p:cNvPicPr/>
          <p:nvPr/>
        </p:nvPicPr>
        <p:blipFill>
          <a:blip r:embed="rId1"/>
          <a:stretch/>
        </p:blipFill>
        <p:spPr>
          <a:xfrm>
            <a:off x="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5003640" y="1536840"/>
            <a:ext cx="388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I am not ashamed, for I know the one in whom I have put my trust, and I am sure that he is able to guard until that day what I have entrusted to him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anklin Gothic Book"/>
              </a:rPr>
              <a:t>2 Timothy 1:12-14 (NRS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9080" y="169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FINAL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49080" y="2771640"/>
            <a:ext cx="824364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10: Continuing wel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Before then: Meet your ment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86" name="Group 18"/>
          <p:cNvGrpSpPr/>
          <p:nvPr/>
        </p:nvGrpSpPr>
        <p:grpSpPr>
          <a:xfrm>
            <a:off x="6327720" y="0"/>
            <a:ext cx="2781360" cy="6858000"/>
            <a:chOff x="6327720" y="0"/>
            <a:chExt cx="2781360" cy="6858000"/>
          </a:xfrm>
        </p:grpSpPr>
        <p:pic>
          <p:nvPicPr>
            <p:cNvPr id="187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32772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8600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71364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543800" cy="31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36c23"/>
                </a:solidFill>
                <a:latin typeface="Franklin Gothic Medium"/>
              </a:rPr>
              <a:t>SESSION 9</a:t>
            </a:r>
            <a:r>
              <a:rPr b="0" lang="en-GB" sz="60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STAYING FRESH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00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730920" y="3933720"/>
            <a:ext cx="2413080" cy="2924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6174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769760"/>
            <a:ext cx="6781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understand that leadership is a marathon, not a sprin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emphasise the importance of staying fres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establish a training programme for staying fres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057480" y="3919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Image result for ranulph fiennes"/>
          <p:cNvPicPr/>
          <p:nvPr/>
        </p:nvPicPr>
        <p:blipFill>
          <a:blip r:embed="rId1"/>
          <a:srcRect l="5713" t="0" r="10784" b="0"/>
          <a:stretch/>
        </p:blipFill>
        <p:spPr>
          <a:xfrm>
            <a:off x="250920" y="1076400"/>
            <a:ext cx="5290920" cy="472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Image result for ranulph fiennes"/>
          <p:cNvPicPr/>
          <p:nvPr/>
        </p:nvPicPr>
        <p:blipFill>
          <a:blip r:embed="rId2"/>
          <a:stretch/>
        </p:blipFill>
        <p:spPr>
          <a:xfrm>
            <a:off x="5796000" y="1046160"/>
            <a:ext cx="3124080" cy="47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Sir Ranulph (right) and Dr Stroud celebrate at the end of their final marathon in New York - picture by Gill Allen, copyright The Times"/>
          <p:cNvPicPr/>
          <p:nvPr/>
        </p:nvPicPr>
        <p:blipFill>
          <a:blip r:embed="rId1"/>
          <a:stretch/>
        </p:blipFill>
        <p:spPr>
          <a:xfrm>
            <a:off x="1547640" y="1411200"/>
            <a:ext cx="5980320" cy="3978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57480" y="3919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_39515041_fiennes_marathon4_map416"/>
          <p:cNvPicPr/>
          <p:nvPr/>
        </p:nvPicPr>
        <p:blipFill>
          <a:blip r:embed="rId1"/>
          <a:stretch/>
        </p:blipFill>
        <p:spPr>
          <a:xfrm>
            <a:off x="582480" y="1479600"/>
            <a:ext cx="7986960" cy="4032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3057480" y="3919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82480" y="1844640"/>
            <a:ext cx="7959960" cy="3841560"/>
          </a:xfrm>
          <a:prstGeom prst="rect">
            <a:avLst/>
          </a:prstGeom>
          <a:solidFill>
            <a:srgbClr val="0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Train yourself in godliness, for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while physical training is of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some value, godliness is valuable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in every way, holding promise for both the present life and the life to come.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anklin Gothic Medium"/>
              </a:rPr>
              <a:t>1 Timothy 4: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j0148998"/>
          <p:cNvPicPr/>
          <p:nvPr/>
        </p:nvPicPr>
        <p:blipFill>
          <a:blip r:embed="rId1"/>
          <a:stretch/>
        </p:blipFill>
        <p:spPr>
          <a:xfrm>
            <a:off x="331920" y="311040"/>
            <a:ext cx="4168800" cy="6235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105520" y="1735200"/>
            <a:ext cx="3352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PREPARING TO R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WEARY OR FRE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20" y="311040"/>
            <a:ext cx="84168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040" y="29829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1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ersonalise the trai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2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stretching yoursel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3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ork out a rhyth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4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close relationship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5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the cour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7" name="Picture 5" descr="Sample"/>
          <p:cNvPicPr/>
          <p:nvPr/>
        </p:nvPicPr>
        <p:blipFill>
          <a:blip r:embed="rId1"/>
          <a:stretch/>
        </p:blipFill>
        <p:spPr>
          <a:xfrm>
            <a:off x="990720" y="69696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9:19:37Z</dcterms:created>
  <dc:creator>Simon</dc:creator>
  <dc:description/>
  <dc:language>en-US</dc:language>
  <cp:lastModifiedBy>James Lawrence</cp:lastModifiedBy>
  <dcterms:modified xsi:type="dcterms:W3CDTF">2018-08-03T11:46:49Z</dcterms:modified>
  <cp:revision>105</cp:revision>
  <dc:subject/>
  <dc:title>PowerPoint Presentation</dc:title>
</cp:coreProperties>
</file>